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3.wmf" ContentType="image/x-wmf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6.wmf" ContentType="image/x-wmf"/>
  <Override PartName="/ppt/media/image7.jpeg" ContentType="image/jpeg"/>
  <Override PartName="/ppt/media/image20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5.wmf" ContentType="image/x-wmf"/>
  <Override PartName="/ppt/media/image1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9.wmf" ContentType="image/x-wmf"/>
  <Override PartName="/ppt/media/image2.png" ContentType="image/png"/>
  <Override PartName="/ppt/media/image18.wmf" ContentType="image/x-wmf"/>
  <Override PartName="/ppt/media/image17.png" ContentType="image/png"/>
  <Override PartName="/ppt/media/image15.png" ContentType="image/png"/>
  <Override PartName="/ppt/media/image1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1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it-IT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2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it-IT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3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it-IT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AA3F3CF-FECD-40C6-A95A-CC3F1F25D8A3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6D9FAC7-4DE6-44F1-B19B-656878C92AA2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977760" y="755640"/>
            <a:ext cx="5156280" cy="386712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27000" y="4871520"/>
            <a:ext cx="5259600" cy="462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7B6DD68-E4DB-4DC2-A01B-71AD2997865D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979560" y="755640"/>
            <a:ext cx="5156280" cy="386712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27000" y="4871520"/>
            <a:ext cx="5259600" cy="462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23640" y="1699920"/>
            <a:ext cx="83739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640" y="3957120"/>
            <a:ext cx="83739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3640" y="1699920"/>
            <a:ext cx="40863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14840" y="1699920"/>
            <a:ext cx="40863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23640" y="3957120"/>
            <a:ext cx="40863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14840" y="3957120"/>
            <a:ext cx="40863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3640" y="1699920"/>
            <a:ext cx="26960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55040" y="1699920"/>
            <a:ext cx="26960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86080" y="1699920"/>
            <a:ext cx="26960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23640" y="3957120"/>
            <a:ext cx="26960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55040" y="3957120"/>
            <a:ext cx="26960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86080" y="3957120"/>
            <a:ext cx="26960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23640" y="1699920"/>
            <a:ext cx="83739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23640" y="1699920"/>
            <a:ext cx="83739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3640" y="1699920"/>
            <a:ext cx="40863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14840" y="1699920"/>
            <a:ext cx="40863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23640" y="1699920"/>
            <a:ext cx="40863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14840" y="1699920"/>
            <a:ext cx="40863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23640" y="3957120"/>
            <a:ext cx="40863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23640" y="1699920"/>
            <a:ext cx="40863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14840" y="1699920"/>
            <a:ext cx="40863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14840" y="3957120"/>
            <a:ext cx="40863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23640" y="1699920"/>
            <a:ext cx="40863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14840" y="1699920"/>
            <a:ext cx="40863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23640" y="3957120"/>
            <a:ext cx="83739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23640" y="1699920"/>
            <a:ext cx="83739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00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900000" y="0"/>
            <a:ext cx="2808360" cy="40464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5076720" y="0"/>
            <a:ext cx="1511280" cy="40464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5"/>
          <a:stretch/>
        </p:blipFill>
        <p:spPr>
          <a:xfrm>
            <a:off x="3708360" y="0"/>
            <a:ext cx="1322280" cy="4046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148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6588000" y="0"/>
            <a:ext cx="1368720" cy="39852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7956720" y="0"/>
            <a:ext cx="1187280" cy="40464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0" y="6165720"/>
            <a:ext cx="9144000" cy="825120"/>
          </a:xfrm>
          <a:prstGeom prst="rect">
            <a:avLst/>
          </a:prstGeom>
          <a:solidFill>
            <a:srgbClr val="002928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00"/>
                </a:solidFill>
                <a:latin typeface="Verdana"/>
              </a:rPr>
              <a:t>Open Source Lombardia 2005/06 – Gruppo 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– 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Antonio Agnelli -  Laura Antichi – Maurizio Naso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04640"/>
            <a:ext cx="9178920" cy="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16572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250920" y="549360"/>
            <a:ext cx="8642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12.png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wmf"/><Relationship Id="rId6" Type="http://schemas.openxmlformats.org/officeDocument/2006/relationships/image" Target="../media/image17.png"/><Relationship Id="rId7" Type="http://schemas.openxmlformats.org/officeDocument/2006/relationships/image" Target="../media/image18.wmf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4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siam1838.it/progetti/AICA_USR/ProtocolloFinaleAICA-USR.pdf" TargetMode="External"/><Relationship Id="rId2" Type="http://schemas.openxmlformats.org/officeDocument/2006/relationships/image" Target="../media/image3.png"/><Relationship Id="rId3" Type="http://schemas.openxmlformats.org/officeDocument/2006/relationships/hyperlink" Target="http://www.siam1838.it/progetti/AICA_USR/USR_SIAM.html" TargetMode="External"/><Relationship Id="rId4" Type="http://schemas.openxmlformats.org/officeDocument/2006/relationships/hyperlink" Target="http://www.siam1838.it/progetti/AICA_USR/USR_SIAM.html" TargetMode="External"/><Relationship Id="rId5" Type="http://schemas.openxmlformats.org/officeDocument/2006/relationships/hyperlink" Target="http://www.siam1838.it/progetti/AICA_USR/USR_SIAM.html" TargetMode="External"/><Relationship Id="rId6" Type="http://schemas.openxmlformats.org/officeDocument/2006/relationships/hyperlink" Target="http://www.siam1838.it/progetti/AICA_USR/USR_SIAM.html" TargetMode="External"/><Relationship Id="rId7" Type="http://schemas.openxmlformats.org/officeDocument/2006/relationships/hyperlink" Target="http://www.siam1838.it/progetti/AICA_USR/USR_SIAM.html" TargetMode="External"/><Relationship Id="rId8" Type="http://schemas.openxmlformats.org/officeDocument/2006/relationships/slideLayout" Target="../slideLayouts/slideLayout1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itd.cnr.it/SoDiLinux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www.istruzione.lombardia.it/comunic/comunic05/mag05/cprot9958_05.htm" TargetMode="External"/><Relationship Id="rId2" Type="http://schemas.openxmlformats.org/officeDocument/2006/relationships/hyperlink" Target="http://harmonia.cefriel.it/" TargetMode="External"/><Relationship Id="rId3" Type="http://schemas.openxmlformats.org/officeDocument/2006/relationships/hyperlink" Target="http://www.siam1838.it/progetti/aica_usr.html" TargetMode="External"/><Relationship Id="rId4" Type="http://schemas.openxmlformats.org/officeDocument/2006/relationships/hyperlink" Target="http://www.istruzione.lombardia.it/comunic/comunic05/mag05/cprot9958_05.htm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aica-usr.cefriel.it/Project" TargetMode="External"/><Relationship Id="rId3" Type="http://schemas.openxmlformats.org/officeDocument/2006/relationships/hyperlink" Target="http://aica-usr.cefriel.it/Harmonia" TargetMode="External"/><Relationship Id="rId4" Type="http://schemas.openxmlformats.org/officeDocument/2006/relationships/hyperlink" Target="http://aica-usr.cefriel.it/Harmonia" TargetMode="External"/><Relationship Id="rId5" Type="http://schemas.openxmlformats.org/officeDocument/2006/relationships/hyperlink" Target="http://aica-usr.cefriel.it/UML" TargetMode="External"/><Relationship Id="rId6" Type="http://schemas.openxmlformats.org/officeDocument/2006/relationships/hyperlink" Target="http://aica-usr.cefriel.it/UML" TargetMode="External"/><Relationship Id="rId7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144000" cy="2016000"/>
          </a:xfrm>
          <a:prstGeom prst="rect">
            <a:avLst/>
          </a:prstGeom>
          <a:solidFill>
            <a:srgbClr val="004a48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R 2005 - 2006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::::::::::</a:t>
            </a:r>
            <a:br>
              <a:rPr sz="2800"/>
            </a:b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Cultura delle certificazioni nel pluralismo delle soluzioni informatic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03280" y="2637000"/>
            <a:ext cx="6408720" cy="3385800"/>
          </a:xfrm>
          <a:prstGeom prst="ellipse">
            <a:avLst/>
          </a:prstGeom>
          <a:solidFill>
            <a:srgbClr val="ffffcc"/>
          </a:solidFill>
          <a:ln w="7632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68360" y="2997360"/>
            <a:ext cx="460872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2928"/>
                </a:solidFill>
                <a:latin typeface="Arial"/>
              </a:rPr>
              <a:t>O</a:t>
            </a:r>
            <a:r>
              <a:rPr b="1" lang="it-IT" sz="2800" spc="-1" strike="noStrike">
                <a:solidFill>
                  <a:srgbClr val="002928"/>
                </a:solidFill>
                <a:latin typeface="Arial"/>
              </a:rPr>
              <a:t>pen</a:t>
            </a:r>
            <a:r>
              <a:rPr b="1" lang="it-IT" sz="3200" spc="-1" strike="noStrike">
                <a:solidFill>
                  <a:srgbClr val="002928"/>
                </a:solidFill>
                <a:latin typeface="Arial"/>
              </a:rPr>
              <a:t> </a:t>
            </a:r>
            <a:r>
              <a:rPr b="1" i="1" lang="it-IT" sz="3200" spc="-1" strike="noStrike">
                <a:solidFill>
                  <a:srgbClr val="002928"/>
                </a:solidFill>
                <a:latin typeface="Arial"/>
              </a:rPr>
              <a:t>S</a:t>
            </a:r>
            <a:r>
              <a:rPr b="1" lang="it-IT" sz="2800" spc="-1" strike="noStrike">
                <a:solidFill>
                  <a:srgbClr val="002928"/>
                </a:solidFill>
                <a:latin typeface="Arial"/>
              </a:rPr>
              <a:t>ource</a:t>
            </a:r>
            <a:r>
              <a:rPr b="1" lang="it-IT" sz="3200" spc="-1" strike="noStrike">
                <a:solidFill>
                  <a:srgbClr val="00292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2928"/>
                </a:solidFill>
                <a:latin typeface="Arial"/>
              </a:rPr>
              <a:t>Lombardia 2005/06</a:t>
            </a:r>
            <a:r>
              <a:rPr b="1" lang="it-IT" sz="3600" spc="-1" strike="noStrike">
                <a:solidFill>
                  <a:srgbClr val="002928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6600" spc="-1" strike="noStrike">
                <a:solidFill>
                  <a:srgbClr val="000099"/>
                </a:solidFill>
                <a:latin typeface="Arial"/>
              </a:rPr>
              <a:t>G</a:t>
            </a:r>
            <a:r>
              <a:rPr b="1" lang="it-IT" sz="3200" spc="-1" strike="noStrike">
                <a:solidFill>
                  <a:srgbClr val="000099"/>
                </a:solidFill>
                <a:latin typeface="Arial"/>
              </a:rPr>
              <a:t>ruppo</a:t>
            </a:r>
            <a:r>
              <a:rPr b="1" lang="it-IT" sz="3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it-IT" sz="6000" spc="-1" strike="noStrike">
                <a:solidFill>
                  <a:srgbClr val="000099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99"/>
                </a:solidFill>
                <a:latin typeface="Arial"/>
              </a:rPr>
              <a:t>Referenti Region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141720"/>
            <a:ext cx="316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340000" y="333360"/>
            <a:ext cx="4824360" cy="1055880"/>
          </a:xfrm>
          <a:custGeom>
            <a:avLst/>
            <a:gdLst/>
            <a:ahLst/>
            <a:rect l="l" t="t" r="r" b="b"/>
            <a:pathLst>
              <a:path w="3160" h="756">
                <a:moveTo>
                  <a:pt x="1255" y="23"/>
                </a:moveTo>
                <a:cubicBezTo>
                  <a:pt x="1059" y="23"/>
                  <a:pt x="771" y="99"/>
                  <a:pt x="620" y="114"/>
                </a:cubicBezTo>
                <a:cubicBezTo>
                  <a:pt x="469" y="129"/>
                  <a:pt x="439" y="99"/>
                  <a:pt x="348" y="114"/>
                </a:cubicBezTo>
                <a:cubicBezTo>
                  <a:pt x="257" y="129"/>
                  <a:pt x="113" y="121"/>
                  <a:pt x="75" y="204"/>
                </a:cubicBezTo>
                <a:cubicBezTo>
                  <a:pt x="37" y="287"/>
                  <a:pt x="0" y="536"/>
                  <a:pt x="121" y="612"/>
                </a:cubicBezTo>
                <a:cubicBezTo>
                  <a:pt x="242" y="688"/>
                  <a:pt x="627" y="665"/>
                  <a:pt x="801" y="658"/>
                </a:cubicBezTo>
                <a:cubicBezTo>
                  <a:pt x="975" y="651"/>
                  <a:pt x="1058" y="575"/>
                  <a:pt x="1164" y="567"/>
                </a:cubicBezTo>
                <a:cubicBezTo>
                  <a:pt x="1270" y="559"/>
                  <a:pt x="1345" y="612"/>
                  <a:pt x="1436" y="612"/>
                </a:cubicBezTo>
                <a:cubicBezTo>
                  <a:pt x="1527" y="612"/>
                  <a:pt x="1519" y="552"/>
                  <a:pt x="1708" y="567"/>
                </a:cubicBezTo>
                <a:cubicBezTo>
                  <a:pt x="1897" y="582"/>
                  <a:pt x="2335" y="756"/>
                  <a:pt x="2570" y="703"/>
                </a:cubicBezTo>
                <a:cubicBezTo>
                  <a:pt x="2805" y="650"/>
                  <a:pt x="3070" y="363"/>
                  <a:pt x="3115" y="250"/>
                </a:cubicBezTo>
                <a:cubicBezTo>
                  <a:pt x="3160" y="137"/>
                  <a:pt x="3061" y="46"/>
                  <a:pt x="2842" y="23"/>
                </a:cubicBezTo>
                <a:cubicBezTo>
                  <a:pt x="2623" y="0"/>
                  <a:pt x="2056" y="114"/>
                  <a:pt x="1799" y="114"/>
                </a:cubicBezTo>
                <a:cubicBezTo>
                  <a:pt x="1542" y="114"/>
                  <a:pt x="1451" y="23"/>
                  <a:pt x="1255" y="23"/>
                </a:cubicBezTo>
                <a:close/>
              </a:path>
            </a:pathLst>
          </a:custGeom>
          <a:solidFill>
            <a:srgbClr val="ff00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84360" y="62064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“COME” NEL PROGET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084680" y="1117800"/>
            <a:ext cx="7047720" cy="4623120"/>
            <a:chOff x="1084680" y="1117800"/>
            <a:chExt cx="7047720" cy="4623120"/>
          </a:xfrm>
        </p:grpSpPr>
        <p:sp>
          <p:nvSpPr>
            <p:cNvPr id="127" name="_s120839"/>
            <p:cNvSpPr/>
            <p:nvPr/>
          </p:nvSpPr>
          <p:spPr>
            <a:xfrm flipV="1">
              <a:off x="3432600" y="1117440"/>
              <a:ext cx="2351520" cy="1540800"/>
            </a:xfrm>
            <a:custGeom>
              <a:avLst/>
              <a:gdLst>
                <a:gd name="textAreaLeft" fmla="*/ 843840 w 2351520"/>
                <a:gd name="textAreaRight" fmla="*/ 1507680 w 2351520"/>
                <a:gd name="textAreaTop" fmla="*/ 552960 h 1540800"/>
                <a:gd name="textAreaBottom" fmla="*/ 987840 h 1540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dab3fd"/>
            </a:solidFill>
            <a:ln w="58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86440" rIns="586440" tIns="141840" bIns="14184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Arial"/>
                </a:rPr>
                <a:t>GANT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120840"/>
            <p:cNvSpPr/>
            <p:nvPr/>
          </p:nvSpPr>
          <p:spPr>
            <a:xfrm flipV="1">
              <a:off x="2259720" y="2658600"/>
              <a:ext cx="4697280" cy="1540800"/>
            </a:xfrm>
            <a:custGeom>
              <a:avLst/>
              <a:gdLst>
                <a:gd name="textAreaLeft" fmla="*/ 1032840 w 4697280"/>
                <a:gd name="textAreaRight" fmla="*/ 3664440 w 4697280"/>
                <a:gd name="textAreaTop" fmla="*/ 338760 h 1540800"/>
                <a:gd name="textAreaBottom" fmla="*/ 1202040 h 1540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660066"/>
            </a:solidFill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86440" rIns="586440" tIns="293040" bIns="293040" anchor="ctr" rot="10800000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rogetto di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vergenza operati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120841"/>
            <p:cNvSpPr/>
            <p:nvPr/>
          </p:nvSpPr>
          <p:spPr>
            <a:xfrm flipV="1">
              <a:off x="1084680" y="4199760"/>
              <a:ext cx="7047720" cy="1540800"/>
            </a:xfrm>
            <a:custGeom>
              <a:avLst/>
              <a:gdLst>
                <a:gd name="textAreaLeft" fmla="*/ 1223280 w 7047720"/>
                <a:gd name="textAreaRight" fmla="*/ 5824440 w 7047720"/>
                <a:gd name="textAreaTop" fmla="*/ 267480 h 1540800"/>
                <a:gd name="textAreaBottom" fmla="*/ 1273320 h 1540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fff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86440" rIns="586440" tIns="293040" bIns="293040" anchor="ctr" rot="10800000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660066"/>
                  </a:solidFill>
                  <a:latin typeface="Arial"/>
                </a:rPr>
                <a:t>PROCEDUR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660066"/>
                  </a:solidFill>
                  <a:latin typeface="Arial"/>
                </a:rPr>
                <a:t>PER IL RICONDIZIONAMENTO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660066"/>
                  </a:solidFill>
                  <a:latin typeface="Arial"/>
                </a:rPr>
                <a:t>OpenSour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834200" y="2780640"/>
              <a:ext cx="1006920" cy="1202760"/>
            </a:xfrm>
            <a:prstGeom prst="rect">
              <a:avLst/>
            </a:prstGeom>
            <a:solidFill>
              <a:srgbClr val="ff0000">
                <a:alpha val="2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V="1">
            <a:off x="8388360" y="1197000"/>
            <a:ext cx="0" cy="4896000"/>
          </a:xfrm>
          <a:prstGeom prst="line">
            <a:avLst/>
          </a:prstGeom>
          <a:ln w="228600">
            <a:solidFill>
              <a:srgbClr val="800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1187280" y="1268280"/>
            <a:ext cx="144720" cy="4824720"/>
          </a:xfrm>
          <a:prstGeom prst="line">
            <a:avLst/>
          </a:prstGeom>
          <a:ln w="22860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58920" y="2492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932360" y="1341360"/>
            <a:ext cx="2735280" cy="8769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efri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ase progettual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588000" y="3933720"/>
            <a:ext cx="2162160" cy="9234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e oper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116000" y="3141720"/>
            <a:ext cx="6769080" cy="14346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800" spc="-1" strike="noStrike">
                <a:solidFill>
                  <a:srgbClr val="000000"/>
                </a:solidFill>
                <a:latin typeface="Arial"/>
              </a:rPr>
              <a:t>Harmonia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Logo di Housefly"/>
          <p:cNvPicPr/>
          <p:nvPr/>
        </p:nvPicPr>
        <p:blipFill>
          <a:blip r:embed="rId1"/>
          <a:stretch/>
        </p:blipFill>
        <p:spPr>
          <a:xfrm>
            <a:off x="0" y="549360"/>
            <a:ext cx="1143000" cy="13842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 rot="634800">
            <a:off x="5043600" y="1279440"/>
            <a:ext cx="3598920" cy="10033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268360" y="5229360"/>
            <a:ext cx="60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http://aica-usr.cefriel.it/Corso-Harmo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1916280"/>
            <a:ext cx="356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99"/>
                </a:solidFill>
                <a:latin typeface="Arial"/>
              </a:rPr>
              <a:t>Harmonia Cos’è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Logo di Housefly"/>
          <p:cNvPicPr/>
          <p:nvPr/>
        </p:nvPicPr>
        <p:blipFill>
          <a:blip r:embed="rId1"/>
          <a:stretch/>
        </p:blipFill>
        <p:spPr>
          <a:xfrm>
            <a:off x="0" y="549360"/>
            <a:ext cx="1143000" cy="13842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 rot="634800">
            <a:off x="5043600" y="1279440"/>
            <a:ext cx="3598920" cy="10033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547640" y="5661000"/>
            <a:ext cx="60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http://aica-usr.cefriel.it/Corso-Harmo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3851280" y="2637000"/>
            <a:ext cx="4968720" cy="9349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916360" y="4076640"/>
            <a:ext cx="54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2268360" y="3645000"/>
            <a:ext cx="6154920" cy="16142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635280" y="220500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È un C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71640" y="2997360"/>
            <a:ext cx="86364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11280" y="2565360"/>
            <a:ext cx="0" cy="1224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95280" y="3789360"/>
            <a:ext cx="187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Ha licenza aper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971640" y="2637000"/>
            <a:ext cx="720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-3594240" y="27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549360"/>
            <a:ext cx="2736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È stato progettato un esempio di piattaforma per la gestione dei contenuti sul Modello di Harmonia Cefri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49360"/>
            <a:ext cx="2340000" cy="2160360"/>
          </a:xfrm>
          <a:prstGeom prst="ellipse">
            <a:avLst/>
          </a:prstGeom>
          <a:solidFill>
            <a:srgbClr val="ff3399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HARMO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66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Un Modell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66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per siti scolastici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042920" y="4869000"/>
            <a:ext cx="831960" cy="1008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635280" y="1125360"/>
            <a:ext cx="518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mette il rispetto delle specifiche d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BILIT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di fruibilità dei contenuti da parte di utenti diversamente abil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708360" y="2924280"/>
            <a:ext cx="543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mette agli utenti di partecipare ad una COMUNITÀ DI APPRENDI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708360" y="4365720"/>
            <a:ext cx="496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 presta, come CMS, ad essere usata in qualità  di PORTALE INNOVATIVO PER LA SCUOLA, nel rispetto della Legge Stan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348000" y="1197000"/>
            <a:ext cx="358920" cy="289080"/>
          </a:xfrm>
          <a:prstGeom prst="sun">
            <a:avLst>
              <a:gd name="adj" fmla="val 25000"/>
            </a:avLst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19640" y="3068640"/>
            <a:ext cx="358560" cy="289080"/>
          </a:xfrm>
          <a:prstGeom prst="sun">
            <a:avLst>
              <a:gd name="adj" fmla="val 25000"/>
            </a:avLst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19640" y="4437000"/>
            <a:ext cx="358560" cy="289080"/>
          </a:xfrm>
          <a:prstGeom prst="sun">
            <a:avLst>
              <a:gd name="adj" fmla="val 25000"/>
            </a:avLst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1916280"/>
            <a:ext cx="406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99"/>
                </a:solidFill>
                <a:latin typeface="Arial"/>
              </a:rPr>
              <a:t>Harmonia caratteristi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Logo di Housefly"/>
          <p:cNvPicPr/>
          <p:nvPr/>
        </p:nvPicPr>
        <p:blipFill>
          <a:blip r:embed="rId1"/>
          <a:stretch/>
        </p:blipFill>
        <p:spPr>
          <a:xfrm>
            <a:off x="0" y="549360"/>
            <a:ext cx="1143000" cy="13842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 rot="634800">
            <a:off x="4716360" y="692280"/>
            <a:ext cx="3598920" cy="10033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547640" y="5661000"/>
            <a:ext cx="60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http://aica-usr.cefriel.it/Corso-Harmo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916360" y="4076640"/>
            <a:ext cx="54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4211640" y="1916280"/>
            <a:ext cx="3613320" cy="7585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4211640" y="2565360"/>
            <a:ext cx="4932360" cy="9367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684360" y="3645000"/>
            <a:ext cx="2735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0" y="3860640"/>
            <a:ext cx="2952720" cy="658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6"/>
          <a:stretch/>
        </p:blipFill>
        <p:spPr>
          <a:xfrm>
            <a:off x="0" y="4508640"/>
            <a:ext cx="4753080" cy="12240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7"/>
          <a:stretch/>
        </p:blipFill>
        <p:spPr>
          <a:xfrm>
            <a:off x="5219640" y="4292640"/>
            <a:ext cx="3924360" cy="12240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908000" y="3141720"/>
            <a:ext cx="0" cy="718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1908000" y="3068280"/>
            <a:ext cx="2376720" cy="73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908000" y="3213000"/>
            <a:ext cx="3384720" cy="1152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1193760"/>
            <a:ext cx="9144000" cy="48276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475920"/>
            <a:ext cx="8229600" cy="1143000"/>
          </a:xfrm>
          <a:prstGeom prst="rect">
            <a:avLst/>
          </a:prstGeom>
          <a:solidFill>
            <a:srgbClr val="00626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a Form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Logo di Housefly"/>
          <p:cNvPicPr/>
          <p:nvPr/>
        </p:nvPicPr>
        <p:blipFill>
          <a:blip r:embed="rId2"/>
          <a:stretch/>
        </p:blipFill>
        <p:spPr>
          <a:xfrm>
            <a:off x="0" y="549360"/>
            <a:ext cx="1143000" cy="13842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 rot="634800">
            <a:off x="5043600" y="1279440"/>
            <a:ext cx="3598920" cy="10033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435640" y="5589720"/>
            <a:ext cx="352908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http://harmonia.cefriel.i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692360" y="5516640"/>
            <a:ext cx="345600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http://aica-usr.cefriel.i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042920" y="1197000"/>
            <a:ext cx="2881440" cy="5814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Harmon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0" y="476280"/>
          <a:ext cx="9144000" cy="568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76280"/>
                    <a:ext cx="9144000" cy="56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3348000" y="1268280"/>
            <a:ext cx="518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4000" y="3284640"/>
            <a:ext cx="6335640" cy="22320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5198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4427640" y="3213000"/>
            <a:ext cx="4105080" cy="1434600"/>
          </a:xfrm>
          <a:prstGeom prst="rect">
            <a:avLst/>
          </a:prstGeom>
          <a:solidFill>
            <a:srgbClr val="ff33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Arial"/>
              </a:rPr>
              <a:t>Harmonia</a:t>
            </a:r>
            <a:r>
              <a:rPr b="1" lang="it-IT" sz="8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211640" y="1052640"/>
            <a:ext cx="4248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116000" y="3141720"/>
            <a:ext cx="6769080" cy="14346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UML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 rot="634800">
            <a:off x="5043600" y="1279440"/>
            <a:ext cx="3598920" cy="10033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19280" y="508464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http://aica-usr.cefriel.it/Corso-U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195640" y="549360"/>
            <a:ext cx="5113080" cy="398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DOVE CI COLLOCHIA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00720" y="907920"/>
            <a:ext cx="0" cy="5257800"/>
          </a:xfrm>
          <a:prstGeom prst="line">
            <a:avLst/>
          </a:prstGeom>
          <a:ln w="76320">
            <a:solidFill>
              <a:srgbClr val="0062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3141720"/>
            <a:ext cx="9144000" cy="0"/>
          </a:xfrm>
          <a:prstGeom prst="line">
            <a:avLst/>
          </a:prstGeom>
          <a:ln w="76320">
            <a:solidFill>
              <a:srgbClr val="0062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9280" y="981000"/>
            <a:ext cx="4248360" cy="398880"/>
          </a:xfrm>
          <a:prstGeom prst="rect">
            <a:avLst/>
          </a:prstGeom>
          <a:solidFill>
            <a:srgbClr val="0062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Nella cultura delle certificaz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51280" y="1052640"/>
            <a:ext cx="3997440" cy="398880"/>
          </a:xfrm>
          <a:prstGeom prst="rect">
            <a:avLst/>
          </a:prstGeom>
          <a:solidFill>
            <a:srgbClr val="0062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Nella form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43280" y="3213000"/>
            <a:ext cx="4284720" cy="398880"/>
          </a:xfrm>
          <a:prstGeom prst="rect">
            <a:avLst/>
          </a:prstGeom>
          <a:solidFill>
            <a:srgbClr val="0062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Nel proget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3213000"/>
            <a:ext cx="4105440" cy="398880"/>
          </a:xfrm>
          <a:prstGeom prst="rect">
            <a:avLst/>
          </a:prstGeom>
          <a:solidFill>
            <a:srgbClr val="0062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Nell’innovazione didat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71640" y="170028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Lettera Prot. N. 99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508720" y="1628640"/>
            <a:ext cx="2808360" cy="405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7164360" y="2133720"/>
            <a:ext cx="1322280" cy="4046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4932360" y="2133720"/>
            <a:ext cx="1511280" cy="4046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042920" y="21337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e-Europe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, Lisbona 2000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3645000"/>
            <a:ext cx="40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usione della cultura delle certificazioni informatiche e al loro organico inserimento nei relativi piani di studio 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479736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Valorizzazione Linux, Open Sourc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716360" y="3789360"/>
            <a:ext cx="42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rogetto “Banco del Computer G. Arcudi per le scuole lombarde” (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SR/SIAM1838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) e ricondizionamento Open Source 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5508720" y="2637000"/>
            <a:ext cx="1368360" cy="3981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6948360" y="2637000"/>
            <a:ext cx="1187640" cy="4046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68360" y="544500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ortfolio delle Competenze informati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16360" y="5084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Utilizzo Piattaforme CMS (Harmon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16360" y="558972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Organizzazione dei processi (Gant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4360" y="1773360"/>
            <a:ext cx="287280" cy="215640"/>
          </a:xfrm>
          <a:prstGeom prst="sun">
            <a:avLst>
              <a:gd name="adj" fmla="val 25000"/>
            </a:avLst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2276640"/>
            <a:ext cx="287280" cy="215640"/>
          </a:xfrm>
          <a:prstGeom prst="sun">
            <a:avLst>
              <a:gd name="adj" fmla="val 25000"/>
            </a:avLst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9280" y="4797360"/>
            <a:ext cx="287280" cy="216000"/>
          </a:xfrm>
          <a:prstGeom prst="sun">
            <a:avLst>
              <a:gd name="adj" fmla="val 25000"/>
            </a:avLst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79280" y="3716280"/>
            <a:ext cx="287280" cy="216000"/>
          </a:xfrm>
          <a:prstGeom prst="sun">
            <a:avLst>
              <a:gd name="adj" fmla="val 25000"/>
            </a:avLst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5445000"/>
            <a:ext cx="287280" cy="216000"/>
          </a:xfrm>
          <a:prstGeom prst="sun">
            <a:avLst>
              <a:gd name="adj" fmla="val 25000"/>
            </a:avLst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00720" y="5157720"/>
            <a:ext cx="287280" cy="216000"/>
          </a:xfrm>
          <a:prstGeom prst="sun">
            <a:avLst>
              <a:gd name="adj" fmla="val 25000"/>
            </a:avLst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00720" y="3860640"/>
            <a:ext cx="287280" cy="216000"/>
          </a:xfrm>
          <a:prstGeom prst="sun">
            <a:avLst>
              <a:gd name="adj" fmla="val 25000"/>
            </a:avLst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00720" y="5661000"/>
            <a:ext cx="287280" cy="216000"/>
          </a:xfrm>
          <a:prstGeom prst="sun">
            <a:avLst>
              <a:gd name="adj" fmla="val 25000"/>
            </a:avLst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626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a Form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324000" y="2349360"/>
          <a:ext cx="8280360" cy="373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349360"/>
                    <a:ext cx="8280360" cy="373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 rot="634800">
            <a:off x="4039920" y="1749240"/>
            <a:ext cx="4619520" cy="128736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324000" y="1557360"/>
            <a:ext cx="3313080" cy="14256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ffffff"/>
                </a:solidFill>
                <a:latin typeface="Arial"/>
              </a:rPr>
              <a:t>UM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Unified Modeling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626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a Form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 rot="634800">
            <a:off x="4039920" y="1749240"/>
            <a:ext cx="4619520" cy="128736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24000" y="1557360"/>
            <a:ext cx="3313080" cy="14256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ffffff"/>
                </a:solidFill>
                <a:latin typeface="Arial"/>
              </a:rPr>
              <a:t>UM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Unified Modeling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1280" y="3429000"/>
            <a:ext cx="792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'UML è, dunque, un metodo per descrivere l'architettura di un sistema in dettaglio. Come è facile intuire, utilizzando una sorta di cianografia sarà molto più facile costruire o mantenere un sistema e assicurarsi che il sistema stesso si presterà senza troppe difficoltà a futuri cambiamenti dei requisi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8096400" y="5516640"/>
            <a:ext cx="10476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626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a Form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 rot="634800">
            <a:off x="4039920" y="1749240"/>
            <a:ext cx="4619520" cy="12873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4000" y="1557360"/>
            <a:ext cx="3313080" cy="14256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ffffff"/>
                </a:solidFill>
                <a:latin typeface="Arial"/>
              </a:rPr>
              <a:t>UM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Unified Modeling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3357720"/>
            <a:ext cx="896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La forza dell'Unified Modeling Language consiste nel fatto che il processo di disegno del sistema può essere effettuata in modo tale che i clienti, gli analisti, i programmatori e chiunque altro sia coinvolto nel sistema di sviluppo possa capire ed esaminare in modo efficiente il sistema e prendere parte alla sua costruzione in modo att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372360" y="5445000"/>
            <a:ext cx="187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8096400" y="5589720"/>
            <a:ext cx="10476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626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a Form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564000" y="2924280"/>
            <a:ext cx="4110120" cy="31338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 rot="634800">
            <a:off x="4427640" y="1699920"/>
            <a:ext cx="3979800" cy="110808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179280" y="1413000"/>
            <a:ext cx="3313080" cy="14256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ffffff"/>
                </a:solidFill>
                <a:latin typeface="Arial"/>
              </a:rPr>
              <a:t>UM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Unified Modeling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3860640"/>
            <a:ext cx="3419640" cy="3988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http://argouml.tigris.org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179280" y="3068640"/>
            <a:ext cx="1368360" cy="7462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0" y="4653000"/>
            <a:ext cx="3564000" cy="3988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ttp://www.omg.org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"/>
          <p:cNvGraphicFramePr/>
          <p:nvPr/>
        </p:nvGraphicFramePr>
        <p:xfrm>
          <a:off x="0" y="465120"/>
          <a:ext cx="9144000" cy="562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65120"/>
                    <a:ext cx="9144000" cy="562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>
            <a:off x="5076720" y="476280"/>
            <a:ext cx="3419640" cy="3988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http://argouml.tigris.org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8096400" y="5516640"/>
            <a:ext cx="10476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4000" y="836280"/>
            <a:ext cx="7848360" cy="2663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79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n esempio di modellazione con UML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Gestione di una bibliote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377640" y="4314600"/>
            <a:ext cx="8016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92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uigi Lavaz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EFRI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vazza@cefriel.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475920"/>
            <a:ext cx="4932360" cy="865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Class diagram</a:t>
            </a: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bibliote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81160" y="1003320"/>
            <a:ext cx="8862840" cy="544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229600" cy="1143000"/>
          </a:xfrm>
          <a:prstGeom prst="rect">
            <a:avLst/>
          </a:prstGeom>
          <a:solidFill>
            <a:srgbClr val="00626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a Form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95280" y="3357720"/>
            <a:ext cx="3816360" cy="2289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Arial"/>
              </a:rPr>
              <a:t>PRIMA F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it-IT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La cultura delle certificazioni nel pluralismo delle soluzioni informatiche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”, é sostenuta da </a:t>
            </a:r>
            <a:r>
              <a:rPr b="1" lang="it-IT" sz="2000" spc="-1" strike="noStrike">
                <a:solidFill>
                  <a:srgbClr val="000099"/>
                </a:solidFill>
                <a:latin typeface="Arial"/>
              </a:rPr>
              <a:t>AICA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e mira a consolidare e a certificare le competenze sul software libero o Open Source.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 rot="20802600">
            <a:off x="533520" y="1730160"/>
            <a:ext cx="3671640" cy="13683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4427640" y="3284640"/>
            <a:ext cx="4427280" cy="2737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Arial"/>
              </a:rPr>
              <a:t>SECONDA F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niziativa “</a:t>
            </a:r>
            <a:r>
              <a:rPr b="0" lang="it-IT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Banco del Computer </a:t>
            </a:r>
            <a:r>
              <a:rPr b="0" lang="it-IT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G.</a:t>
            </a:r>
            <a:r>
              <a:rPr b="0" lang="it-IT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 </a:t>
            </a:r>
            <a:r>
              <a:rPr b="0" lang="it-IT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Arcudi</a:t>
            </a:r>
            <a:r>
              <a:rPr b="0" lang="it-IT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per le scuole lombarde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”, é supportato da </a:t>
            </a:r>
            <a:r>
              <a:rPr b="1" lang="it-IT" sz="2000" spc="-1" strike="noStrike">
                <a:solidFill>
                  <a:srgbClr val="000099"/>
                </a:solidFill>
                <a:latin typeface="Arial"/>
              </a:rPr>
              <a:t>SIAM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e offre l’opportunità di arricchire le dotazioni tecnologiche tramite rigenerazione in Open Source di PC donati da Università e aziende.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788000" y="1413000"/>
            <a:ext cx="259236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ICA - SI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716360" y="2060640"/>
            <a:ext cx="288000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DUE FA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3276360" y="2565360"/>
            <a:ext cx="2447640" cy="792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24360" y="2565360"/>
            <a:ext cx="792360" cy="719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229600" cy="1143000"/>
          </a:xfrm>
          <a:prstGeom prst="rect">
            <a:avLst/>
          </a:prstGeom>
          <a:solidFill>
            <a:srgbClr val="00626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a Form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03640" y="4797360"/>
            <a:ext cx="5400720" cy="1191240"/>
          </a:xfrm>
          <a:prstGeom prst="rect">
            <a:avLst/>
          </a:prstGeom>
          <a:solidFill>
            <a:srgbClr val="daee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Acquisizione delle procedure di ricondizionamento di PC mediante la suite So.Di.Linux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 rot="20802600">
            <a:off x="533520" y="1730160"/>
            <a:ext cx="3671640" cy="136836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3276720" y="2924280"/>
            <a:ext cx="5616360" cy="825480"/>
          </a:xfrm>
          <a:prstGeom prst="rect">
            <a:avLst/>
          </a:prstGeom>
          <a:solidFill>
            <a:srgbClr val="daee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PARAZIONE ALL’ESAME EUCIP IT ADMINIST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851280" y="3716280"/>
            <a:ext cx="489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moduli 2, 3 (su Linux) e 4 (multipiattaforma) del Syllabus di EUCIP IT Administr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8360" y="393372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INALITA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2484360" y="3284640"/>
            <a:ext cx="863640" cy="1009440"/>
          </a:xfrm>
          <a:prstGeom prst="line">
            <a:avLst/>
          </a:prstGeom>
          <a:ln w="76320">
            <a:solidFill>
              <a:srgbClr val="0062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84360" y="4221000"/>
            <a:ext cx="647640" cy="720720"/>
          </a:xfrm>
          <a:prstGeom prst="line">
            <a:avLst/>
          </a:prstGeom>
          <a:ln w="76320">
            <a:solidFill>
              <a:srgbClr val="0062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229600" cy="1143000"/>
          </a:xfrm>
          <a:prstGeom prst="rect">
            <a:avLst/>
          </a:prstGeom>
          <a:solidFill>
            <a:srgbClr val="00626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a Form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24000" y="3429000"/>
            <a:ext cx="8820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È stata così favorita la diffusione sia della certificazioni </a:t>
            </a:r>
            <a:r>
              <a:rPr b="1" lang="it-IT" sz="2800" spc="-1" strike="noStrike">
                <a:solidFill>
                  <a:srgbClr val="000099"/>
                </a:solidFill>
                <a:latin typeface="Arial"/>
              </a:rPr>
              <a:t>ECDL/EUCIP in versione Open Source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, sia della suite </a:t>
            </a:r>
            <a:r>
              <a:rPr b="0" lang="it-IT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o.Di.Linux</a:t>
            </a:r>
            <a:r>
              <a:rPr b="1" lang="it-IT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che, sviluppata dall’Istituto per le Tecnologie Didattiche del CNR di Genova e distribuita gratuitamente alle scuole, contiene 150 applicazioni didattich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 rot="20802600">
            <a:off x="533520" y="1730160"/>
            <a:ext cx="36716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0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692360" y="836640"/>
            <a:ext cx="5472000" cy="642600"/>
          </a:xfrm>
          <a:prstGeom prst="rect">
            <a:avLst/>
          </a:prstGeom>
          <a:solidFill>
            <a:srgbClr val="0062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ARGET GRUPPO 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1844640"/>
            <a:ext cx="813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Arial"/>
              </a:rPr>
              <a:t>“</a:t>
            </a:r>
            <a:r>
              <a:rPr b="1" lang="en-US" sz="4800" spc="-1" strike="noStrike">
                <a:solidFill>
                  <a:srgbClr val="660066"/>
                </a:solidFill>
                <a:latin typeface="Arial"/>
              </a:rPr>
              <a:t>elaborazione di progetti”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00000" y="299736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Per inserire strumenti informatici connessi alle certificazioni europee nella didattica curricol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26920" y="4797360"/>
            <a:ext cx="71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 il coordinamento delle azioni con i referenti provinciali (P) e delle scuole 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2997360"/>
            <a:ext cx="502920" cy="502920"/>
          </a:xfrm>
          <a:prstGeom prst="star5">
            <a:avLst/>
          </a:prstGeom>
          <a:solidFill>
            <a:srgbClr val="0062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4797360"/>
            <a:ext cx="502920" cy="503280"/>
          </a:xfrm>
          <a:prstGeom prst="star5">
            <a:avLst/>
          </a:prstGeom>
          <a:solidFill>
            <a:srgbClr val="0062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250920" y="907920"/>
            <a:ext cx="4608360" cy="4608720"/>
          </a:xfrm>
          <a:prstGeom prst="ellipse">
            <a:avLst/>
          </a:prstGeom>
          <a:solidFill>
            <a:srgbClr val="ffd3ff">
              <a:alpha val="25000"/>
            </a:srgbClr>
          </a:solidFill>
          <a:ln cap="rnd" w="28440">
            <a:solidFill>
              <a:srgbClr val="00626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476280"/>
            <a:ext cx="9144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PROPOSTA DI LAVORO e RICADUTE SUL TERRITO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140360" y="1052640"/>
            <a:ext cx="4464000" cy="4535280"/>
          </a:xfrm>
          <a:prstGeom prst="ellipse">
            <a:avLst/>
          </a:prstGeom>
          <a:solidFill>
            <a:srgbClr val="ffd3ff">
              <a:alpha val="25000"/>
            </a:srgbClr>
          </a:solidFill>
          <a:ln cap="rnd" w="38160">
            <a:solidFill>
              <a:srgbClr val="00626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39640" y="1916280"/>
            <a:ext cx="2448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Analisi delle azioni per rispondere al percorso curricolare di </a:t>
            </a:r>
            <a:r>
              <a:rPr b="1" lang="it-IT" sz="2400" spc="-1" strike="noStrike">
                <a:solidFill>
                  <a:srgbClr val="660066"/>
                </a:solidFill>
                <a:latin typeface="Arial"/>
              </a:rPr>
              <a:t>certificazione EC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187280" y="1341360"/>
            <a:ext cx="2448000" cy="581400"/>
          </a:xfrm>
          <a:prstGeom prst="rect">
            <a:avLst/>
          </a:prstGeom>
          <a:solidFill>
            <a:srgbClr val="ffd3ff"/>
          </a:solidFill>
          <a:ln w="9360">
            <a:solidFill>
              <a:srgbClr val="ebce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TE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580000" y="1413000"/>
            <a:ext cx="2160720" cy="581400"/>
          </a:xfrm>
          <a:prstGeom prst="rect">
            <a:avLst/>
          </a:prstGeom>
          <a:solidFill>
            <a:srgbClr val="ffd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TE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084720" y="2060640"/>
            <a:ext cx="251964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Appendice della procedura di </a:t>
            </a:r>
            <a:r>
              <a:rPr b="1" lang="it-IT" sz="2000" spc="-1" strike="noStrike">
                <a:solidFill>
                  <a:srgbClr val="660066"/>
                </a:solidFill>
                <a:latin typeface="Arial"/>
              </a:rPr>
              <a:t>ricondizionamento </a:t>
            </a:r>
            <a:r>
              <a:rPr b="1" lang="it-IT" sz="2400" spc="-1" strike="noStrike">
                <a:solidFill>
                  <a:srgbClr val="660066"/>
                </a:solidFill>
                <a:latin typeface="Arial"/>
              </a:rPr>
              <a:t>dei PC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dismessi in ambito provincia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rot="21474600">
            <a:off x="2842920" y="2492280"/>
            <a:ext cx="3241440" cy="1944720"/>
          </a:xfrm>
          <a:prstGeom prst="ellipse">
            <a:avLst/>
          </a:prstGeom>
          <a:solidFill>
            <a:srgbClr val="ff3300">
              <a:alpha val="27000"/>
            </a:srgbClr>
          </a:solidFill>
          <a:ln w="57240">
            <a:solidFill>
              <a:srgbClr val="ebcec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Arial"/>
              </a:rPr>
              <a:t>Contenut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987640" y="4508640"/>
            <a:ext cx="3024360" cy="936360"/>
          </a:xfrm>
          <a:prstGeom prst="ellipse">
            <a:avLst/>
          </a:prstGeom>
          <a:solidFill>
            <a:srgbClr val="660066">
              <a:alpha val="24000"/>
            </a:srgbClr>
          </a:solidFill>
          <a:ln cap="rnd" w="76320">
            <a:solidFill>
              <a:srgbClr val="ebcec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STRUME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028960" y="5048280"/>
            <a:ext cx="958680" cy="396720"/>
          </a:xfrm>
          <a:custGeom>
            <a:avLst/>
            <a:gdLst/>
            <a:ahLst/>
            <a:rect l="l" t="t" r="r" b="b"/>
            <a:pathLst>
              <a:path w="604" h="250">
                <a:moveTo>
                  <a:pt x="604" y="23"/>
                </a:moveTo>
                <a:cubicBezTo>
                  <a:pt x="415" y="11"/>
                  <a:pt x="226" y="0"/>
                  <a:pt x="196" y="23"/>
                </a:cubicBezTo>
                <a:cubicBezTo>
                  <a:pt x="166" y="46"/>
                  <a:pt x="446" y="136"/>
                  <a:pt x="423" y="159"/>
                </a:cubicBezTo>
                <a:cubicBezTo>
                  <a:pt x="400" y="182"/>
                  <a:pt x="120" y="144"/>
                  <a:pt x="60" y="159"/>
                </a:cubicBezTo>
                <a:cubicBezTo>
                  <a:pt x="0" y="174"/>
                  <a:pt x="30" y="212"/>
                  <a:pt x="60" y="250"/>
                </a:cubicBezTo>
              </a:path>
            </a:pathLst>
          </a:custGeom>
          <a:noFill/>
          <a:ln w="76320">
            <a:solidFill>
              <a:srgbClr val="66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012000" y="5013360"/>
            <a:ext cx="731880" cy="431640"/>
          </a:xfrm>
          <a:custGeom>
            <a:avLst/>
            <a:gdLst/>
            <a:ahLst/>
            <a:rect l="l" t="t" r="r" b="b"/>
            <a:pathLst>
              <a:path w="461" h="272">
                <a:moveTo>
                  <a:pt x="0" y="0"/>
                </a:moveTo>
                <a:cubicBezTo>
                  <a:pt x="192" y="7"/>
                  <a:pt x="385" y="15"/>
                  <a:pt x="408" y="45"/>
                </a:cubicBezTo>
                <a:cubicBezTo>
                  <a:pt x="431" y="75"/>
                  <a:pt x="136" y="151"/>
                  <a:pt x="136" y="181"/>
                </a:cubicBezTo>
                <a:cubicBezTo>
                  <a:pt x="136" y="211"/>
                  <a:pt x="355" y="212"/>
                  <a:pt x="408" y="227"/>
                </a:cubicBezTo>
                <a:cubicBezTo>
                  <a:pt x="461" y="242"/>
                  <a:pt x="457" y="257"/>
                  <a:pt x="454" y="272"/>
                </a:cubicBezTo>
              </a:path>
            </a:pathLst>
          </a:custGeom>
          <a:noFill/>
          <a:ln w="76320">
            <a:solidFill>
              <a:srgbClr val="66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635280" y="1700280"/>
            <a:ext cx="865440" cy="720720"/>
          </a:xfrm>
          <a:custGeom>
            <a:avLst/>
            <a:gdLst/>
            <a:ahLst/>
            <a:rect l="l" t="t" r="r" b="b"/>
            <a:pathLst>
              <a:path w="545" h="454">
                <a:moveTo>
                  <a:pt x="545" y="454"/>
                </a:moveTo>
                <a:cubicBezTo>
                  <a:pt x="431" y="310"/>
                  <a:pt x="318" y="167"/>
                  <a:pt x="227" y="91"/>
                </a:cubicBezTo>
                <a:cubicBezTo>
                  <a:pt x="136" y="15"/>
                  <a:pt x="68" y="7"/>
                  <a:pt x="0" y="0"/>
                </a:cubicBezTo>
              </a:path>
            </a:pathLst>
          </a:custGeom>
          <a:noFill/>
          <a:ln w="76320">
            <a:solidFill>
              <a:srgbClr val="660066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0" y="1749600"/>
            <a:ext cx="1008000" cy="671400"/>
          </a:xfrm>
          <a:custGeom>
            <a:avLst/>
            <a:gdLst/>
            <a:ahLst/>
            <a:rect l="l" t="t" r="r" b="b"/>
            <a:pathLst>
              <a:path w="544" h="378">
                <a:moveTo>
                  <a:pt x="544" y="15"/>
                </a:moveTo>
                <a:cubicBezTo>
                  <a:pt x="476" y="7"/>
                  <a:pt x="408" y="0"/>
                  <a:pt x="317" y="60"/>
                </a:cubicBezTo>
                <a:cubicBezTo>
                  <a:pt x="226" y="120"/>
                  <a:pt x="53" y="325"/>
                  <a:pt x="0" y="378"/>
                </a:cubicBezTo>
              </a:path>
            </a:pathLst>
          </a:custGeom>
          <a:noFill/>
          <a:ln w="76320">
            <a:solidFill>
              <a:srgbClr val="660066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7632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3716280"/>
            <a:ext cx="885960" cy="1006560"/>
          </a:xfrm>
          <a:custGeom>
            <a:avLst/>
            <a:gdLst/>
            <a:ahLst/>
            <a:rect l="l" t="t" r="r" b="b"/>
            <a:pathLst>
              <a:path w="256" h="634">
                <a:moveTo>
                  <a:pt x="151" y="0"/>
                </a:moveTo>
                <a:cubicBezTo>
                  <a:pt x="113" y="0"/>
                  <a:pt x="0" y="15"/>
                  <a:pt x="15" y="45"/>
                </a:cubicBezTo>
                <a:cubicBezTo>
                  <a:pt x="30" y="75"/>
                  <a:pt x="226" y="128"/>
                  <a:pt x="241" y="181"/>
                </a:cubicBezTo>
                <a:cubicBezTo>
                  <a:pt x="256" y="234"/>
                  <a:pt x="128" y="303"/>
                  <a:pt x="105" y="363"/>
                </a:cubicBezTo>
                <a:cubicBezTo>
                  <a:pt x="82" y="423"/>
                  <a:pt x="90" y="506"/>
                  <a:pt x="105" y="544"/>
                </a:cubicBezTo>
                <a:cubicBezTo>
                  <a:pt x="120" y="582"/>
                  <a:pt x="196" y="634"/>
                  <a:pt x="196" y="589"/>
                </a:cubicBezTo>
                <a:cubicBezTo>
                  <a:pt x="196" y="544"/>
                  <a:pt x="97" y="363"/>
                  <a:pt x="105" y="272"/>
                </a:cubicBezTo>
                <a:cubicBezTo>
                  <a:pt x="113" y="181"/>
                  <a:pt x="241" y="90"/>
                  <a:pt x="241" y="45"/>
                </a:cubicBezTo>
                <a:cubicBezTo>
                  <a:pt x="241" y="0"/>
                  <a:pt x="189" y="0"/>
                  <a:pt x="151" y="0"/>
                </a:cubicBezTo>
                <a:close/>
              </a:path>
            </a:pathLst>
          </a:custGeom>
          <a:solidFill>
            <a:srgbClr val="6600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50920" y="5300640"/>
            <a:ext cx="4427280" cy="1008000"/>
          </a:xfrm>
          <a:prstGeom prst="ellipse">
            <a:avLst/>
          </a:prstGeom>
          <a:solidFill>
            <a:srgbClr val="ffff00">
              <a:alpha val="51000"/>
            </a:srgbClr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HARMO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211640" y="5300640"/>
            <a:ext cx="4753080" cy="1008000"/>
          </a:xfrm>
          <a:prstGeom prst="ellipse">
            <a:avLst/>
          </a:prstGeom>
          <a:solidFill>
            <a:srgbClr val="ffff00">
              <a:alpha val="51000"/>
            </a:srgbClr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660066"/>
                </a:solidFill>
                <a:latin typeface="Arial"/>
              </a:rPr>
              <a:t>Il Portfolio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elle competenze informati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2987640" y="1413000"/>
            <a:ext cx="6208920" cy="480996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0" y="1125360"/>
            <a:ext cx="3635280" cy="1271880"/>
          </a:xfrm>
          <a:custGeom>
            <a:avLst/>
            <a:gdLst/>
            <a:ahLst/>
            <a:rect l="l" t="t" r="r" b="b"/>
            <a:pathLst>
              <a:path w="3160" h="756">
                <a:moveTo>
                  <a:pt x="1255" y="23"/>
                </a:moveTo>
                <a:cubicBezTo>
                  <a:pt x="1059" y="23"/>
                  <a:pt x="771" y="99"/>
                  <a:pt x="620" y="114"/>
                </a:cubicBezTo>
                <a:cubicBezTo>
                  <a:pt x="469" y="129"/>
                  <a:pt x="439" y="99"/>
                  <a:pt x="348" y="114"/>
                </a:cubicBezTo>
                <a:cubicBezTo>
                  <a:pt x="257" y="129"/>
                  <a:pt x="113" y="121"/>
                  <a:pt x="75" y="204"/>
                </a:cubicBezTo>
                <a:cubicBezTo>
                  <a:pt x="37" y="287"/>
                  <a:pt x="0" y="536"/>
                  <a:pt x="121" y="612"/>
                </a:cubicBezTo>
                <a:cubicBezTo>
                  <a:pt x="242" y="688"/>
                  <a:pt x="627" y="665"/>
                  <a:pt x="801" y="658"/>
                </a:cubicBezTo>
                <a:cubicBezTo>
                  <a:pt x="975" y="651"/>
                  <a:pt x="1058" y="575"/>
                  <a:pt x="1164" y="567"/>
                </a:cubicBezTo>
                <a:cubicBezTo>
                  <a:pt x="1270" y="559"/>
                  <a:pt x="1345" y="612"/>
                  <a:pt x="1436" y="612"/>
                </a:cubicBezTo>
                <a:cubicBezTo>
                  <a:pt x="1527" y="612"/>
                  <a:pt x="1519" y="552"/>
                  <a:pt x="1708" y="567"/>
                </a:cubicBezTo>
                <a:cubicBezTo>
                  <a:pt x="1897" y="582"/>
                  <a:pt x="2335" y="756"/>
                  <a:pt x="2570" y="703"/>
                </a:cubicBezTo>
                <a:cubicBezTo>
                  <a:pt x="2805" y="650"/>
                  <a:pt x="3070" y="363"/>
                  <a:pt x="3115" y="250"/>
                </a:cubicBezTo>
                <a:cubicBezTo>
                  <a:pt x="3160" y="137"/>
                  <a:pt x="3061" y="46"/>
                  <a:pt x="2842" y="23"/>
                </a:cubicBezTo>
                <a:cubicBezTo>
                  <a:pt x="2623" y="0"/>
                  <a:pt x="2056" y="114"/>
                  <a:pt x="1799" y="114"/>
                </a:cubicBezTo>
                <a:cubicBezTo>
                  <a:pt x="1542" y="114"/>
                  <a:pt x="1451" y="23"/>
                  <a:pt x="1255" y="23"/>
                </a:cubicBezTo>
                <a:close/>
              </a:path>
            </a:pathLst>
          </a:custGeom>
          <a:solidFill>
            <a:srgbClr val="ff000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140360" y="836640"/>
            <a:ext cx="5016240" cy="1200240"/>
          </a:xfrm>
          <a:custGeom>
            <a:avLst/>
            <a:gdLst/>
            <a:ahLst/>
            <a:rect l="l" t="t" r="r" b="b"/>
            <a:pathLst>
              <a:path w="3160" h="756">
                <a:moveTo>
                  <a:pt x="1255" y="23"/>
                </a:moveTo>
                <a:cubicBezTo>
                  <a:pt x="1059" y="23"/>
                  <a:pt x="771" y="99"/>
                  <a:pt x="620" y="114"/>
                </a:cubicBezTo>
                <a:cubicBezTo>
                  <a:pt x="469" y="129"/>
                  <a:pt x="439" y="99"/>
                  <a:pt x="348" y="114"/>
                </a:cubicBezTo>
                <a:cubicBezTo>
                  <a:pt x="257" y="129"/>
                  <a:pt x="113" y="121"/>
                  <a:pt x="75" y="204"/>
                </a:cubicBezTo>
                <a:cubicBezTo>
                  <a:pt x="37" y="287"/>
                  <a:pt x="0" y="536"/>
                  <a:pt x="121" y="612"/>
                </a:cubicBezTo>
                <a:cubicBezTo>
                  <a:pt x="242" y="688"/>
                  <a:pt x="627" y="665"/>
                  <a:pt x="801" y="658"/>
                </a:cubicBezTo>
                <a:cubicBezTo>
                  <a:pt x="975" y="651"/>
                  <a:pt x="1058" y="575"/>
                  <a:pt x="1164" y="567"/>
                </a:cubicBezTo>
                <a:cubicBezTo>
                  <a:pt x="1270" y="559"/>
                  <a:pt x="1345" y="612"/>
                  <a:pt x="1436" y="612"/>
                </a:cubicBezTo>
                <a:cubicBezTo>
                  <a:pt x="1527" y="612"/>
                  <a:pt x="1519" y="552"/>
                  <a:pt x="1708" y="567"/>
                </a:cubicBezTo>
                <a:cubicBezTo>
                  <a:pt x="1897" y="582"/>
                  <a:pt x="2335" y="756"/>
                  <a:pt x="2570" y="703"/>
                </a:cubicBezTo>
                <a:cubicBezTo>
                  <a:pt x="2805" y="650"/>
                  <a:pt x="3070" y="363"/>
                  <a:pt x="3115" y="250"/>
                </a:cubicBezTo>
                <a:cubicBezTo>
                  <a:pt x="3160" y="137"/>
                  <a:pt x="3061" y="46"/>
                  <a:pt x="2842" y="23"/>
                </a:cubicBezTo>
                <a:cubicBezTo>
                  <a:pt x="2623" y="0"/>
                  <a:pt x="2056" y="114"/>
                  <a:pt x="1799" y="114"/>
                </a:cubicBezTo>
                <a:cubicBezTo>
                  <a:pt x="1542" y="114"/>
                  <a:pt x="1451" y="23"/>
                  <a:pt x="1255" y="23"/>
                </a:cubicBezTo>
                <a:close/>
              </a:path>
            </a:pathLst>
          </a:custGeom>
          <a:solidFill>
            <a:srgbClr val="e5caa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50920" y="1989000"/>
            <a:ext cx="3095640" cy="2448000"/>
          </a:xfrm>
          <a:custGeom>
            <a:avLst/>
            <a:gdLst/>
            <a:ahLst/>
            <a:rect l="l" t="t" r="r" b="b"/>
            <a:pathLst>
              <a:path w="3160" h="756">
                <a:moveTo>
                  <a:pt x="1255" y="23"/>
                </a:moveTo>
                <a:cubicBezTo>
                  <a:pt x="1059" y="23"/>
                  <a:pt x="771" y="99"/>
                  <a:pt x="620" y="114"/>
                </a:cubicBezTo>
                <a:cubicBezTo>
                  <a:pt x="469" y="129"/>
                  <a:pt x="439" y="99"/>
                  <a:pt x="348" y="114"/>
                </a:cubicBezTo>
                <a:cubicBezTo>
                  <a:pt x="257" y="129"/>
                  <a:pt x="113" y="121"/>
                  <a:pt x="75" y="204"/>
                </a:cubicBezTo>
                <a:cubicBezTo>
                  <a:pt x="37" y="287"/>
                  <a:pt x="0" y="536"/>
                  <a:pt x="121" y="612"/>
                </a:cubicBezTo>
                <a:cubicBezTo>
                  <a:pt x="242" y="688"/>
                  <a:pt x="627" y="665"/>
                  <a:pt x="801" y="658"/>
                </a:cubicBezTo>
                <a:cubicBezTo>
                  <a:pt x="975" y="651"/>
                  <a:pt x="1058" y="575"/>
                  <a:pt x="1164" y="567"/>
                </a:cubicBezTo>
                <a:cubicBezTo>
                  <a:pt x="1270" y="559"/>
                  <a:pt x="1345" y="612"/>
                  <a:pt x="1436" y="612"/>
                </a:cubicBezTo>
                <a:cubicBezTo>
                  <a:pt x="1527" y="612"/>
                  <a:pt x="1519" y="552"/>
                  <a:pt x="1708" y="567"/>
                </a:cubicBezTo>
                <a:cubicBezTo>
                  <a:pt x="1897" y="582"/>
                  <a:pt x="2335" y="756"/>
                  <a:pt x="2570" y="703"/>
                </a:cubicBezTo>
                <a:cubicBezTo>
                  <a:pt x="2805" y="650"/>
                  <a:pt x="3070" y="363"/>
                  <a:pt x="3115" y="250"/>
                </a:cubicBezTo>
                <a:cubicBezTo>
                  <a:pt x="3160" y="137"/>
                  <a:pt x="3061" y="46"/>
                  <a:pt x="2842" y="23"/>
                </a:cubicBezTo>
                <a:cubicBezTo>
                  <a:pt x="2623" y="0"/>
                  <a:pt x="2056" y="114"/>
                  <a:pt x="1799" y="114"/>
                </a:cubicBezTo>
                <a:cubicBezTo>
                  <a:pt x="1542" y="114"/>
                  <a:pt x="1451" y="23"/>
                  <a:pt x="1255" y="23"/>
                </a:cubicBezTo>
                <a:close/>
              </a:path>
            </a:pathLst>
          </a:custGeom>
          <a:solidFill>
            <a:srgbClr val="e5caa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0920" y="1268280"/>
            <a:ext cx="2592360" cy="45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Per  rispondere al quesito 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QUALI A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411280" y="549360"/>
            <a:ext cx="3924360" cy="708120"/>
          </a:xfrm>
          <a:custGeom>
            <a:avLst/>
            <a:gdLst/>
            <a:ahLst/>
            <a:rect l="l" t="t" r="r" b="b"/>
            <a:pathLst>
              <a:path w="2472" h="446">
                <a:moveTo>
                  <a:pt x="0" y="204"/>
                </a:moveTo>
                <a:cubicBezTo>
                  <a:pt x="469" y="139"/>
                  <a:pt x="938" y="75"/>
                  <a:pt x="1089" y="113"/>
                </a:cubicBezTo>
                <a:cubicBezTo>
                  <a:pt x="1240" y="151"/>
                  <a:pt x="718" y="446"/>
                  <a:pt x="907" y="431"/>
                </a:cubicBezTo>
                <a:cubicBezTo>
                  <a:pt x="1096" y="416"/>
                  <a:pt x="1974" y="46"/>
                  <a:pt x="2223" y="23"/>
                </a:cubicBezTo>
                <a:cubicBezTo>
                  <a:pt x="2472" y="0"/>
                  <a:pt x="2438" y="147"/>
                  <a:pt x="2404" y="295"/>
                </a:cubicBezTo>
              </a:path>
            </a:pathLst>
          </a:custGeom>
          <a:noFill/>
          <a:ln w="76320">
            <a:solidFill>
              <a:srgbClr val="9966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211640" y="1052640"/>
            <a:ext cx="47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LTA A PROMUOVERE NEI SOGGETTI IN FOM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156360" y="1905120"/>
            <a:ext cx="287280" cy="1236600"/>
          </a:xfrm>
          <a:custGeom>
            <a:avLst/>
            <a:gdLst/>
            <a:ahLst/>
            <a:rect l="l" t="t" r="r" b="b"/>
            <a:pathLst>
              <a:path w="233" h="688">
                <a:moveTo>
                  <a:pt x="52" y="7"/>
                </a:moveTo>
                <a:cubicBezTo>
                  <a:pt x="142" y="3"/>
                  <a:pt x="233" y="0"/>
                  <a:pt x="233" y="53"/>
                </a:cubicBezTo>
                <a:cubicBezTo>
                  <a:pt x="233" y="106"/>
                  <a:pt x="90" y="257"/>
                  <a:pt x="52" y="325"/>
                </a:cubicBezTo>
                <a:cubicBezTo>
                  <a:pt x="14" y="393"/>
                  <a:pt x="0" y="416"/>
                  <a:pt x="7" y="461"/>
                </a:cubicBezTo>
                <a:cubicBezTo>
                  <a:pt x="14" y="506"/>
                  <a:pt x="97" y="559"/>
                  <a:pt x="97" y="597"/>
                </a:cubicBezTo>
                <a:cubicBezTo>
                  <a:pt x="97" y="635"/>
                  <a:pt x="22" y="665"/>
                  <a:pt x="7" y="688"/>
                </a:cubicBezTo>
              </a:path>
            </a:pathLst>
          </a:custGeom>
          <a:noFill/>
          <a:ln w="76320">
            <a:solidFill>
              <a:srgbClr val="9966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132000" y="2060640"/>
            <a:ext cx="1656000" cy="2089080"/>
          </a:xfrm>
          <a:custGeom>
            <a:avLst/>
            <a:gdLst/>
            <a:ahLst/>
            <a:rect l="l" t="t" r="r" b="b"/>
            <a:pathLst>
              <a:path w="1406" h="1474">
                <a:moveTo>
                  <a:pt x="1406" y="1451"/>
                </a:moveTo>
                <a:cubicBezTo>
                  <a:pt x="1300" y="1462"/>
                  <a:pt x="1195" y="1474"/>
                  <a:pt x="1089" y="1361"/>
                </a:cubicBezTo>
                <a:cubicBezTo>
                  <a:pt x="983" y="1248"/>
                  <a:pt x="779" y="937"/>
                  <a:pt x="771" y="771"/>
                </a:cubicBezTo>
                <a:cubicBezTo>
                  <a:pt x="763" y="605"/>
                  <a:pt x="1119" y="446"/>
                  <a:pt x="1043" y="363"/>
                </a:cubicBezTo>
                <a:cubicBezTo>
                  <a:pt x="967" y="280"/>
                  <a:pt x="439" y="325"/>
                  <a:pt x="318" y="272"/>
                </a:cubicBezTo>
                <a:cubicBezTo>
                  <a:pt x="197" y="219"/>
                  <a:pt x="371" y="90"/>
                  <a:pt x="318" y="45"/>
                </a:cubicBezTo>
                <a:cubicBezTo>
                  <a:pt x="265" y="0"/>
                  <a:pt x="132" y="0"/>
                  <a:pt x="0" y="0"/>
                </a:cubicBezTo>
              </a:path>
            </a:pathLst>
          </a:custGeom>
          <a:noFill/>
          <a:ln w="76320">
            <a:solidFill>
              <a:srgbClr val="9966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50920" y="1413000"/>
            <a:ext cx="30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ABORANDO IL “COM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24000" y="476280"/>
            <a:ext cx="230508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Parte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1916280"/>
            <a:ext cx="2087640" cy="1152360"/>
          </a:xfrm>
          <a:custGeom>
            <a:avLst/>
            <a:gdLst/>
            <a:ahLst/>
            <a:rect l="l" t="t" r="r" b="b"/>
            <a:pathLst>
              <a:path w="1187" h="408">
                <a:moveTo>
                  <a:pt x="998" y="0"/>
                </a:moveTo>
                <a:cubicBezTo>
                  <a:pt x="1092" y="45"/>
                  <a:pt x="1187" y="91"/>
                  <a:pt x="1043" y="136"/>
                </a:cubicBezTo>
                <a:cubicBezTo>
                  <a:pt x="899" y="181"/>
                  <a:pt x="272" y="227"/>
                  <a:pt x="136" y="272"/>
                </a:cubicBezTo>
                <a:cubicBezTo>
                  <a:pt x="0" y="317"/>
                  <a:pt x="113" y="362"/>
                  <a:pt x="226" y="408"/>
                </a:cubicBezTo>
              </a:path>
            </a:pathLst>
          </a:custGeom>
          <a:noFill/>
          <a:ln w="76320">
            <a:solidFill>
              <a:srgbClr val="9966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987640" y="5445000"/>
            <a:ext cx="6227640" cy="825480"/>
          </a:xfrm>
          <a:prstGeom prst="rect">
            <a:avLst/>
          </a:prstGeom>
          <a:solidFill>
            <a:srgbClr val="996633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PER ATTUARE UN PERCORSO DI CERTIFICAZIONE ECD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4076640"/>
            <a:ext cx="2087640" cy="1152720"/>
          </a:xfrm>
          <a:custGeom>
            <a:avLst/>
            <a:gdLst/>
            <a:ahLst/>
            <a:rect l="l" t="t" r="r" b="b"/>
            <a:pathLst>
              <a:path w="1187" h="408">
                <a:moveTo>
                  <a:pt x="998" y="0"/>
                </a:moveTo>
                <a:cubicBezTo>
                  <a:pt x="1092" y="45"/>
                  <a:pt x="1187" y="91"/>
                  <a:pt x="1043" y="136"/>
                </a:cubicBezTo>
                <a:cubicBezTo>
                  <a:pt x="899" y="181"/>
                  <a:pt x="272" y="227"/>
                  <a:pt x="136" y="272"/>
                </a:cubicBezTo>
                <a:cubicBezTo>
                  <a:pt x="0" y="317"/>
                  <a:pt x="113" y="362"/>
                  <a:pt x="226" y="408"/>
                </a:cubicBezTo>
              </a:path>
            </a:pathLst>
          </a:custGeom>
          <a:noFill/>
          <a:ln w="76320">
            <a:solidFill>
              <a:srgbClr val="9966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2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2627280" y="404640"/>
            <a:ext cx="4824360" cy="1055880"/>
          </a:xfrm>
          <a:custGeom>
            <a:avLst/>
            <a:gdLst/>
            <a:ahLst/>
            <a:rect l="l" t="t" r="r" b="b"/>
            <a:pathLst>
              <a:path w="3160" h="756">
                <a:moveTo>
                  <a:pt x="1255" y="23"/>
                </a:moveTo>
                <a:cubicBezTo>
                  <a:pt x="1059" y="23"/>
                  <a:pt x="771" y="99"/>
                  <a:pt x="620" y="114"/>
                </a:cubicBezTo>
                <a:cubicBezTo>
                  <a:pt x="469" y="129"/>
                  <a:pt x="439" y="99"/>
                  <a:pt x="348" y="114"/>
                </a:cubicBezTo>
                <a:cubicBezTo>
                  <a:pt x="257" y="129"/>
                  <a:pt x="113" y="121"/>
                  <a:pt x="75" y="204"/>
                </a:cubicBezTo>
                <a:cubicBezTo>
                  <a:pt x="37" y="287"/>
                  <a:pt x="0" y="536"/>
                  <a:pt x="121" y="612"/>
                </a:cubicBezTo>
                <a:cubicBezTo>
                  <a:pt x="242" y="688"/>
                  <a:pt x="627" y="665"/>
                  <a:pt x="801" y="658"/>
                </a:cubicBezTo>
                <a:cubicBezTo>
                  <a:pt x="975" y="651"/>
                  <a:pt x="1058" y="575"/>
                  <a:pt x="1164" y="567"/>
                </a:cubicBezTo>
                <a:cubicBezTo>
                  <a:pt x="1270" y="559"/>
                  <a:pt x="1345" y="612"/>
                  <a:pt x="1436" y="612"/>
                </a:cubicBezTo>
                <a:cubicBezTo>
                  <a:pt x="1527" y="612"/>
                  <a:pt x="1519" y="552"/>
                  <a:pt x="1708" y="567"/>
                </a:cubicBezTo>
                <a:cubicBezTo>
                  <a:pt x="1897" y="582"/>
                  <a:pt x="2335" y="756"/>
                  <a:pt x="2570" y="703"/>
                </a:cubicBezTo>
                <a:cubicBezTo>
                  <a:pt x="2805" y="650"/>
                  <a:pt x="3070" y="363"/>
                  <a:pt x="3115" y="250"/>
                </a:cubicBezTo>
                <a:cubicBezTo>
                  <a:pt x="3160" y="137"/>
                  <a:pt x="3061" y="46"/>
                  <a:pt x="2842" y="23"/>
                </a:cubicBezTo>
                <a:cubicBezTo>
                  <a:pt x="2623" y="0"/>
                  <a:pt x="2056" y="114"/>
                  <a:pt x="1799" y="114"/>
                </a:cubicBezTo>
                <a:cubicBezTo>
                  <a:pt x="1542" y="114"/>
                  <a:pt x="1451" y="23"/>
                  <a:pt x="1255" y="23"/>
                </a:cubicBezTo>
                <a:close/>
              </a:path>
            </a:pathLst>
          </a:custGeom>
          <a:solidFill>
            <a:srgbClr val="ff00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987640" y="549360"/>
            <a:ext cx="43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PPA DEL “COME” NEL PROGET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50920" y="549360"/>
            <a:ext cx="230508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Parte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24000" y="5229360"/>
            <a:ext cx="2376360" cy="64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PREPARAZIONE DELLE CONDI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19280" y="2781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FASE PRELIMIN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476360" y="184464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PROPOSTA AL COLLEGIO DOCE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356000" y="2205000"/>
            <a:ext cx="35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FASE DI PIANIFIC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084720" y="364500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FASE OPER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508720" y="465300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FASE DI MONITORAGG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187280" y="2637000"/>
            <a:ext cx="432000" cy="36036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476360" y="4869000"/>
            <a:ext cx="431640" cy="36036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796000" y="4292640"/>
            <a:ext cx="431640" cy="36036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804000" y="3284640"/>
            <a:ext cx="432000" cy="36036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268360" y="1484280"/>
            <a:ext cx="432000" cy="36036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435640" y="1773360"/>
            <a:ext cx="431640" cy="36036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826920" y="2924280"/>
            <a:ext cx="814680" cy="2016000"/>
          </a:xfrm>
          <a:custGeom>
            <a:avLst/>
            <a:gdLst/>
            <a:ahLst/>
            <a:rect l="l" t="t" r="r" b="b"/>
            <a:pathLst>
              <a:path w="513" h="1270">
                <a:moveTo>
                  <a:pt x="513" y="1270"/>
                </a:moveTo>
                <a:cubicBezTo>
                  <a:pt x="271" y="1126"/>
                  <a:pt x="30" y="983"/>
                  <a:pt x="15" y="771"/>
                </a:cubicBezTo>
                <a:cubicBezTo>
                  <a:pt x="0" y="559"/>
                  <a:pt x="355" y="129"/>
                  <a:pt x="423" y="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898560" y="1628640"/>
            <a:ext cx="1297080" cy="936720"/>
          </a:xfrm>
          <a:custGeom>
            <a:avLst/>
            <a:gdLst/>
            <a:ahLst/>
            <a:rect l="l" t="t" r="r" b="b"/>
            <a:pathLst>
              <a:path w="817" h="590">
                <a:moveTo>
                  <a:pt x="273" y="590"/>
                </a:moveTo>
                <a:cubicBezTo>
                  <a:pt x="136" y="434"/>
                  <a:pt x="0" y="279"/>
                  <a:pt x="91" y="181"/>
                </a:cubicBezTo>
                <a:cubicBezTo>
                  <a:pt x="182" y="83"/>
                  <a:pt x="499" y="41"/>
                  <a:pt x="817" y="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940360" y="1255680"/>
            <a:ext cx="1860480" cy="2028960"/>
          </a:xfrm>
          <a:custGeom>
            <a:avLst/>
            <a:gdLst/>
            <a:ahLst/>
            <a:rect l="l" t="t" r="r" b="b"/>
            <a:pathLst>
              <a:path w="1172" h="1278">
                <a:moveTo>
                  <a:pt x="0" y="416"/>
                </a:moveTo>
                <a:cubicBezTo>
                  <a:pt x="457" y="208"/>
                  <a:pt x="914" y="0"/>
                  <a:pt x="1043" y="144"/>
                </a:cubicBezTo>
                <a:cubicBezTo>
                  <a:pt x="1172" y="288"/>
                  <a:pt x="971" y="783"/>
                  <a:pt x="771" y="127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867280" y="3933720"/>
            <a:ext cx="1009800" cy="358920"/>
          </a:xfrm>
          <a:custGeom>
            <a:avLst/>
            <a:gdLst/>
            <a:ahLst/>
            <a:rect l="l" t="t" r="r" b="b"/>
            <a:pathLst>
              <a:path w="643" h="181">
                <a:moveTo>
                  <a:pt x="643" y="0"/>
                </a:moveTo>
                <a:cubicBezTo>
                  <a:pt x="419" y="53"/>
                  <a:pt x="196" y="106"/>
                  <a:pt x="98" y="136"/>
                </a:cubicBezTo>
                <a:cubicBezTo>
                  <a:pt x="0" y="166"/>
                  <a:pt x="60" y="174"/>
                  <a:pt x="53" y="181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948120" y="4545000"/>
            <a:ext cx="4200480" cy="1211400"/>
          </a:xfrm>
          <a:custGeom>
            <a:avLst/>
            <a:gdLst/>
            <a:ahLst/>
            <a:rect l="l" t="t" r="r" b="b"/>
            <a:pathLst>
              <a:path w="2646" h="763">
                <a:moveTo>
                  <a:pt x="1436" y="23"/>
                </a:moveTo>
                <a:cubicBezTo>
                  <a:pt x="1920" y="11"/>
                  <a:pt x="2404" y="0"/>
                  <a:pt x="2525" y="113"/>
                </a:cubicBezTo>
                <a:cubicBezTo>
                  <a:pt x="2646" y="226"/>
                  <a:pt x="2525" y="643"/>
                  <a:pt x="2162" y="703"/>
                </a:cubicBezTo>
                <a:cubicBezTo>
                  <a:pt x="1799" y="763"/>
                  <a:pt x="696" y="559"/>
                  <a:pt x="348" y="476"/>
                </a:cubicBezTo>
                <a:cubicBezTo>
                  <a:pt x="0" y="393"/>
                  <a:pt x="37" y="298"/>
                  <a:pt x="75" y="204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276720" y="450864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RILAN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708360" y="4149720"/>
            <a:ext cx="432000" cy="36036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rot="724200">
            <a:off x="2782440" y="4365360"/>
            <a:ext cx="781200" cy="1439640"/>
          </a:xfrm>
          <a:custGeom>
            <a:avLst/>
            <a:gdLst/>
            <a:ahLst/>
            <a:rect l="l" t="t" r="r" b="b"/>
            <a:pathLst>
              <a:path w="492" h="907">
                <a:moveTo>
                  <a:pt x="492" y="0"/>
                </a:moveTo>
                <a:cubicBezTo>
                  <a:pt x="284" y="15"/>
                  <a:pt x="76" y="30"/>
                  <a:pt x="38" y="90"/>
                </a:cubicBezTo>
                <a:cubicBezTo>
                  <a:pt x="0" y="150"/>
                  <a:pt x="265" y="325"/>
                  <a:pt x="265" y="363"/>
                </a:cubicBezTo>
                <a:cubicBezTo>
                  <a:pt x="265" y="401"/>
                  <a:pt x="30" y="294"/>
                  <a:pt x="38" y="317"/>
                </a:cubicBezTo>
                <a:cubicBezTo>
                  <a:pt x="46" y="340"/>
                  <a:pt x="311" y="461"/>
                  <a:pt x="311" y="499"/>
                </a:cubicBezTo>
                <a:cubicBezTo>
                  <a:pt x="311" y="537"/>
                  <a:pt x="38" y="521"/>
                  <a:pt x="38" y="544"/>
                </a:cubicBezTo>
                <a:cubicBezTo>
                  <a:pt x="38" y="567"/>
                  <a:pt x="296" y="612"/>
                  <a:pt x="311" y="635"/>
                </a:cubicBezTo>
                <a:cubicBezTo>
                  <a:pt x="326" y="658"/>
                  <a:pt x="129" y="642"/>
                  <a:pt x="129" y="680"/>
                </a:cubicBezTo>
                <a:cubicBezTo>
                  <a:pt x="129" y="718"/>
                  <a:pt x="326" y="824"/>
                  <a:pt x="311" y="862"/>
                </a:cubicBezTo>
                <a:cubicBezTo>
                  <a:pt x="296" y="900"/>
                  <a:pt x="167" y="903"/>
                  <a:pt x="38" y="907"/>
                </a:cubicBezTo>
              </a:path>
            </a:pathLst>
          </a:custGeom>
          <a:noFill/>
          <a:ln cap="rnd" w="76320">
            <a:solidFill>
              <a:srgbClr val="ff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700360" y="1317600"/>
            <a:ext cx="3022560" cy="382680"/>
          </a:xfrm>
          <a:custGeom>
            <a:avLst/>
            <a:gdLst/>
            <a:ahLst/>
            <a:rect l="l" t="t" r="r" b="b"/>
            <a:pathLst>
              <a:path w="1904" h="241">
                <a:moveTo>
                  <a:pt x="0" y="241"/>
                </a:moveTo>
                <a:cubicBezTo>
                  <a:pt x="321" y="135"/>
                  <a:pt x="643" y="30"/>
                  <a:pt x="771" y="15"/>
                </a:cubicBezTo>
                <a:cubicBezTo>
                  <a:pt x="899" y="0"/>
                  <a:pt x="612" y="128"/>
                  <a:pt x="771" y="151"/>
                </a:cubicBezTo>
                <a:cubicBezTo>
                  <a:pt x="930" y="174"/>
                  <a:pt x="1542" y="136"/>
                  <a:pt x="1723" y="151"/>
                </a:cubicBezTo>
                <a:cubicBezTo>
                  <a:pt x="1904" y="166"/>
                  <a:pt x="1881" y="203"/>
                  <a:pt x="1859" y="241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7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8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9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0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2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2340000" y="333360"/>
            <a:ext cx="4824360" cy="1055880"/>
          </a:xfrm>
          <a:custGeom>
            <a:avLst/>
            <a:gdLst/>
            <a:ahLst/>
            <a:rect l="l" t="t" r="r" b="b"/>
            <a:pathLst>
              <a:path w="3160" h="756">
                <a:moveTo>
                  <a:pt x="1255" y="23"/>
                </a:moveTo>
                <a:cubicBezTo>
                  <a:pt x="1059" y="23"/>
                  <a:pt x="771" y="99"/>
                  <a:pt x="620" y="114"/>
                </a:cubicBezTo>
                <a:cubicBezTo>
                  <a:pt x="469" y="129"/>
                  <a:pt x="439" y="99"/>
                  <a:pt x="348" y="114"/>
                </a:cubicBezTo>
                <a:cubicBezTo>
                  <a:pt x="257" y="129"/>
                  <a:pt x="113" y="121"/>
                  <a:pt x="75" y="204"/>
                </a:cubicBezTo>
                <a:cubicBezTo>
                  <a:pt x="37" y="287"/>
                  <a:pt x="0" y="536"/>
                  <a:pt x="121" y="612"/>
                </a:cubicBezTo>
                <a:cubicBezTo>
                  <a:pt x="242" y="688"/>
                  <a:pt x="627" y="665"/>
                  <a:pt x="801" y="658"/>
                </a:cubicBezTo>
                <a:cubicBezTo>
                  <a:pt x="975" y="651"/>
                  <a:pt x="1058" y="575"/>
                  <a:pt x="1164" y="567"/>
                </a:cubicBezTo>
                <a:cubicBezTo>
                  <a:pt x="1270" y="559"/>
                  <a:pt x="1345" y="612"/>
                  <a:pt x="1436" y="612"/>
                </a:cubicBezTo>
                <a:cubicBezTo>
                  <a:pt x="1527" y="612"/>
                  <a:pt x="1519" y="552"/>
                  <a:pt x="1708" y="567"/>
                </a:cubicBezTo>
                <a:cubicBezTo>
                  <a:pt x="1897" y="582"/>
                  <a:pt x="2335" y="756"/>
                  <a:pt x="2570" y="703"/>
                </a:cubicBezTo>
                <a:cubicBezTo>
                  <a:pt x="2805" y="650"/>
                  <a:pt x="3070" y="363"/>
                  <a:pt x="3115" y="250"/>
                </a:cubicBezTo>
                <a:cubicBezTo>
                  <a:pt x="3160" y="137"/>
                  <a:pt x="3061" y="46"/>
                  <a:pt x="2842" y="23"/>
                </a:cubicBezTo>
                <a:cubicBezTo>
                  <a:pt x="2623" y="0"/>
                  <a:pt x="2056" y="114"/>
                  <a:pt x="1799" y="114"/>
                </a:cubicBezTo>
                <a:cubicBezTo>
                  <a:pt x="1542" y="114"/>
                  <a:pt x="1451" y="23"/>
                  <a:pt x="1255" y="23"/>
                </a:cubicBezTo>
                <a:close/>
              </a:path>
            </a:pathLst>
          </a:custGeom>
          <a:solidFill>
            <a:srgbClr val="ff00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484360" y="62064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“COME” NEL PROGET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79280" y="476280"/>
            <a:ext cx="216072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Parte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287280" y="1341360"/>
          <a:ext cx="8856720" cy="4754520"/>
        </p:xfrm>
        <a:graphic>
          <a:graphicData uri="http://schemas.openxmlformats.org/drawingml/2006/table">
            <a:tbl>
              <a:tblPr/>
              <a:tblGrid>
                <a:gridCol w="1944720"/>
                <a:gridCol w="3311640"/>
                <a:gridCol w="2376360"/>
                <a:gridCol w="1224000"/>
              </a:tblGrid>
              <a:tr h="37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s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zio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ggetti coinvol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pist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arazione delle condizioni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Conferenze di servizio provinciali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a, Dirigenti scolastici, enti locali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braio 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ll’interno dell’istitu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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ientamento ed accoglienz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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si di formazione  per valorizzare le competenze informatic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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enziare/aggiornare attrezzature/strumentazion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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enziare il sistema di relazioni/comunicazioni  mediante un sito scolastico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centi, Collegio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iglio di Istitu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o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 proposte sono da approvare per essere inserite nel POF e saranno accompagnate da richieste di finanziam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gio 2006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179280" y="476280"/>
            <a:ext cx="216072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Parte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179280" y="1397160"/>
          <a:ext cx="8856720" cy="4679640"/>
        </p:xfrm>
        <a:graphic>
          <a:graphicData uri="http://schemas.openxmlformats.org/drawingml/2006/table">
            <a:tbl>
              <a:tblPr/>
              <a:tblGrid>
                <a:gridCol w="1440000"/>
                <a:gridCol w="3673440"/>
                <a:gridCol w="2232000"/>
                <a:gridCol w="1511280"/>
              </a:tblGrid>
              <a:tr h="37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s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zio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ggetti coinvol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pist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28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se prelimare</a:t>
                      </a: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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ituzione di una commissione che si occupi delle certificazioni informatich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centi, Collegio, Consiglio di Istituto Consigli di Classe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ociazioni di sett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i locali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gio 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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ontri per dipartimen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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involgimento dei Consigli di classe per un progetto trasvers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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tti con associazioni di settore ed enti locali Creare le condizioni per la curricolarizzazione delle certificazion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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lizzazione degli step da portare in collegio docenti ; in particolare fare riferimento all’utilizzo flessibile  del 15% dell’orario curriculare* 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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viduazione di consigli di classe in grado di sostenere la sperimentazion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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io delle modalità di certificazione delle competenze nel portafolio dello stud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04" name=""/>
          <p:cNvSpPr/>
          <p:nvPr/>
        </p:nvSpPr>
        <p:spPr>
          <a:xfrm>
            <a:off x="2340000" y="333360"/>
            <a:ext cx="4824360" cy="1055880"/>
          </a:xfrm>
          <a:custGeom>
            <a:avLst/>
            <a:gdLst/>
            <a:ahLst/>
            <a:rect l="l" t="t" r="r" b="b"/>
            <a:pathLst>
              <a:path w="3160" h="756">
                <a:moveTo>
                  <a:pt x="1255" y="23"/>
                </a:moveTo>
                <a:cubicBezTo>
                  <a:pt x="1059" y="23"/>
                  <a:pt x="771" y="99"/>
                  <a:pt x="620" y="114"/>
                </a:cubicBezTo>
                <a:cubicBezTo>
                  <a:pt x="469" y="129"/>
                  <a:pt x="439" y="99"/>
                  <a:pt x="348" y="114"/>
                </a:cubicBezTo>
                <a:cubicBezTo>
                  <a:pt x="257" y="129"/>
                  <a:pt x="113" y="121"/>
                  <a:pt x="75" y="204"/>
                </a:cubicBezTo>
                <a:cubicBezTo>
                  <a:pt x="37" y="287"/>
                  <a:pt x="0" y="536"/>
                  <a:pt x="121" y="612"/>
                </a:cubicBezTo>
                <a:cubicBezTo>
                  <a:pt x="242" y="688"/>
                  <a:pt x="627" y="665"/>
                  <a:pt x="801" y="658"/>
                </a:cubicBezTo>
                <a:cubicBezTo>
                  <a:pt x="975" y="651"/>
                  <a:pt x="1058" y="575"/>
                  <a:pt x="1164" y="567"/>
                </a:cubicBezTo>
                <a:cubicBezTo>
                  <a:pt x="1270" y="559"/>
                  <a:pt x="1345" y="612"/>
                  <a:pt x="1436" y="612"/>
                </a:cubicBezTo>
                <a:cubicBezTo>
                  <a:pt x="1527" y="612"/>
                  <a:pt x="1519" y="552"/>
                  <a:pt x="1708" y="567"/>
                </a:cubicBezTo>
                <a:cubicBezTo>
                  <a:pt x="1897" y="582"/>
                  <a:pt x="2335" y="756"/>
                  <a:pt x="2570" y="703"/>
                </a:cubicBezTo>
                <a:cubicBezTo>
                  <a:pt x="2805" y="650"/>
                  <a:pt x="3070" y="363"/>
                  <a:pt x="3115" y="250"/>
                </a:cubicBezTo>
                <a:cubicBezTo>
                  <a:pt x="3160" y="137"/>
                  <a:pt x="3061" y="46"/>
                  <a:pt x="2842" y="23"/>
                </a:cubicBezTo>
                <a:cubicBezTo>
                  <a:pt x="2623" y="0"/>
                  <a:pt x="2056" y="114"/>
                  <a:pt x="1799" y="114"/>
                </a:cubicBezTo>
                <a:cubicBezTo>
                  <a:pt x="1542" y="114"/>
                  <a:pt x="1451" y="23"/>
                  <a:pt x="1255" y="23"/>
                </a:cubicBezTo>
                <a:close/>
              </a:path>
            </a:pathLst>
          </a:custGeom>
          <a:solidFill>
            <a:srgbClr val="ff00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484360" y="62064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“COME” NEL PROGET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8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250920" y="476280"/>
            <a:ext cx="208908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Parte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179280" y="1397160"/>
          <a:ext cx="8856720" cy="4679640"/>
        </p:xfrm>
        <a:graphic>
          <a:graphicData uri="http://schemas.openxmlformats.org/drawingml/2006/table">
            <a:tbl>
              <a:tblPr/>
              <a:tblGrid>
                <a:gridCol w="1440000"/>
                <a:gridCol w="3673440"/>
                <a:gridCol w="2232000"/>
                <a:gridCol w="1511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s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zio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ggetti coinvol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pist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85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sta al collegio docen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Discussione del progetto in collegio e sua approvazion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Approvazione del Consiglio di Istitu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Aggiornamento del PO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egio docenti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iglio di Istituto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gio 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</a:t>
                      </a: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enuti generali della propo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</a:t>
                      </a: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ettazione OpenSource e Software libero per il potenziamento e lo sviluppo delle infrastrutture tecnologiche della scuola, da affiancare al Progetto Microsof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</a:t>
                      </a: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ruire o Utilizzare piattaforme di e-learning, rivolte a docenti e studentiProposta di corsi di formazione per docenti, studenti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</a:t>
                      </a: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tificazione delle competenz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08" name=""/>
          <p:cNvSpPr/>
          <p:nvPr/>
        </p:nvSpPr>
        <p:spPr>
          <a:xfrm>
            <a:off x="2340000" y="333360"/>
            <a:ext cx="4824360" cy="1055880"/>
          </a:xfrm>
          <a:custGeom>
            <a:avLst/>
            <a:gdLst/>
            <a:ahLst/>
            <a:rect l="l" t="t" r="r" b="b"/>
            <a:pathLst>
              <a:path w="3160" h="756">
                <a:moveTo>
                  <a:pt x="1255" y="23"/>
                </a:moveTo>
                <a:cubicBezTo>
                  <a:pt x="1059" y="23"/>
                  <a:pt x="771" y="99"/>
                  <a:pt x="620" y="114"/>
                </a:cubicBezTo>
                <a:cubicBezTo>
                  <a:pt x="469" y="129"/>
                  <a:pt x="439" y="99"/>
                  <a:pt x="348" y="114"/>
                </a:cubicBezTo>
                <a:cubicBezTo>
                  <a:pt x="257" y="129"/>
                  <a:pt x="113" y="121"/>
                  <a:pt x="75" y="204"/>
                </a:cubicBezTo>
                <a:cubicBezTo>
                  <a:pt x="37" y="287"/>
                  <a:pt x="0" y="536"/>
                  <a:pt x="121" y="612"/>
                </a:cubicBezTo>
                <a:cubicBezTo>
                  <a:pt x="242" y="688"/>
                  <a:pt x="627" y="665"/>
                  <a:pt x="801" y="658"/>
                </a:cubicBezTo>
                <a:cubicBezTo>
                  <a:pt x="975" y="651"/>
                  <a:pt x="1058" y="575"/>
                  <a:pt x="1164" y="567"/>
                </a:cubicBezTo>
                <a:cubicBezTo>
                  <a:pt x="1270" y="559"/>
                  <a:pt x="1345" y="612"/>
                  <a:pt x="1436" y="612"/>
                </a:cubicBezTo>
                <a:cubicBezTo>
                  <a:pt x="1527" y="612"/>
                  <a:pt x="1519" y="552"/>
                  <a:pt x="1708" y="567"/>
                </a:cubicBezTo>
                <a:cubicBezTo>
                  <a:pt x="1897" y="582"/>
                  <a:pt x="2335" y="756"/>
                  <a:pt x="2570" y="703"/>
                </a:cubicBezTo>
                <a:cubicBezTo>
                  <a:pt x="2805" y="650"/>
                  <a:pt x="3070" y="363"/>
                  <a:pt x="3115" y="250"/>
                </a:cubicBezTo>
                <a:cubicBezTo>
                  <a:pt x="3160" y="137"/>
                  <a:pt x="3061" y="46"/>
                  <a:pt x="2842" y="23"/>
                </a:cubicBezTo>
                <a:cubicBezTo>
                  <a:pt x="2623" y="0"/>
                  <a:pt x="2056" y="114"/>
                  <a:pt x="1799" y="114"/>
                </a:cubicBezTo>
                <a:cubicBezTo>
                  <a:pt x="1542" y="114"/>
                  <a:pt x="1451" y="23"/>
                  <a:pt x="1255" y="23"/>
                </a:cubicBezTo>
                <a:close/>
              </a:path>
            </a:pathLst>
          </a:custGeom>
          <a:solidFill>
            <a:srgbClr val="ff00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484360" y="62064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“COME” NEL PROGET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9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79280" y="476280"/>
            <a:ext cx="216072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Parte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179280" y="1397160"/>
          <a:ext cx="8856720" cy="4481280"/>
        </p:xfrm>
        <a:graphic>
          <a:graphicData uri="http://schemas.openxmlformats.org/drawingml/2006/table">
            <a:tbl>
              <a:tblPr/>
              <a:tblGrid>
                <a:gridCol w="1944720"/>
                <a:gridCol w="3168720"/>
                <a:gridCol w="2232000"/>
                <a:gridCol w="1511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s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zio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ggetti coinvol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pist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se di pianificazi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egio docenti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iglio di Istituto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gio 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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tificazione e   discipline nei due anni del biennio (riferimento ECDL Cor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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sura di  UDA  dei vari moduli in conformita’ al syllabus  4.0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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izione di un libro di testo validat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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ire materiale di supporto e consultazione per docenti ed alliev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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izione del Test Center (se la scuola non è test Center) di riferimento per la scuo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12" name=""/>
          <p:cNvSpPr/>
          <p:nvPr/>
        </p:nvSpPr>
        <p:spPr>
          <a:xfrm>
            <a:off x="2340000" y="333360"/>
            <a:ext cx="4824360" cy="1055880"/>
          </a:xfrm>
          <a:custGeom>
            <a:avLst/>
            <a:gdLst/>
            <a:ahLst/>
            <a:rect l="l" t="t" r="r" b="b"/>
            <a:pathLst>
              <a:path w="3160" h="756">
                <a:moveTo>
                  <a:pt x="1255" y="23"/>
                </a:moveTo>
                <a:cubicBezTo>
                  <a:pt x="1059" y="23"/>
                  <a:pt x="771" y="99"/>
                  <a:pt x="620" y="114"/>
                </a:cubicBezTo>
                <a:cubicBezTo>
                  <a:pt x="469" y="129"/>
                  <a:pt x="439" y="99"/>
                  <a:pt x="348" y="114"/>
                </a:cubicBezTo>
                <a:cubicBezTo>
                  <a:pt x="257" y="129"/>
                  <a:pt x="113" y="121"/>
                  <a:pt x="75" y="204"/>
                </a:cubicBezTo>
                <a:cubicBezTo>
                  <a:pt x="37" y="287"/>
                  <a:pt x="0" y="536"/>
                  <a:pt x="121" y="612"/>
                </a:cubicBezTo>
                <a:cubicBezTo>
                  <a:pt x="242" y="688"/>
                  <a:pt x="627" y="665"/>
                  <a:pt x="801" y="658"/>
                </a:cubicBezTo>
                <a:cubicBezTo>
                  <a:pt x="975" y="651"/>
                  <a:pt x="1058" y="575"/>
                  <a:pt x="1164" y="567"/>
                </a:cubicBezTo>
                <a:cubicBezTo>
                  <a:pt x="1270" y="559"/>
                  <a:pt x="1345" y="612"/>
                  <a:pt x="1436" y="612"/>
                </a:cubicBezTo>
                <a:cubicBezTo>
                  <a:pt x="1527" y="612"/>
                  <a:pt x="1519" y="552"/>
                  <a:pt x="1708" y="567"/>
                </a:cubicBezTo>
                <a:cubicBezTo>
                  <a:pt x="1897" y="582"/>
                  <a:pt x="2335" y="756"/>
                  <a:pt x="2570" y="703"/>
                </a:cubicBezTo>
                <a:cubicBezTo>
                  <a:pt x="2805" y="650"/>
                  <a:pt x="3070" y="363"/>
                  <a:pt x="3115" y="250"/>
                </a:cubicBezTo>
                <a:cubicBezTo>
                  <a:pt x="3160" y="137"/>
                  <a:pt x="3061" y="46"/>
                  <a:pt x="2842" y="23"/>
                </a:cubicBezTo>
                <a:cubicBezTo>
                  <a:pt x="2623" y="0"/>
                  <a:pt x="2056" y="114"/>
                  <a:pt x="1799" y="114"/>
                </a:cubicBezTo>
                <a:cubicBezTo>
                  <a:pt x="1542" y="114"/>
                  <a:pt x="1451" y="23"/>
                  <a:pt x="1255" y="23"/>
                </a:cubicBezTo>
                <a:close/>
              </a:path>
            </a:pathLst>
          </a:custGeom>
          <a:solidFill>
            <a:srgbClr val="ff00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484360" y="62064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“COME” NEL PROGET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4" dur="indefinite" restart="never" nodeType="tmRoot">
          <p:childTnLst>
            <p:seq>
              <p:cTn id="895" dur="indefinite" nodeType="mainSeq">
                <p:childTnLst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0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324000" y="476280"/>
            <a:ext cx="20160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Parte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287280" y="1989000"/>
          <a:ext cx="8856720" cy="3530880"/>
        </p:xfrm>
        <a:graphic>
          <a:graphicData uri="http://schemas.openxmlformats.org/drawingml/2006/table">
            <a:tbl>
              <a:tblPr/>
              <a:tblGrid>
                <a:gridCol w="1800360"/>
                <a:gridCol w="4752720"/>
                <a:gridCol w="1187640"/>
                <a:gridCol w="1116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s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zio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ggetti coinvol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pist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91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se operativ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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ministrazione dei modu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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 intermedio e fina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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giornamento del portfolio degli studenti 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centi, Alliev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no scolastico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2006/07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6" name=""/>
          <p:cNvSpPr/>
          <p:nvPr/>
        </p:nvSpPr>
        <p:spPr>
          <a:xfrm>
            <a:off x="2340000" y="333360"/>
            <a:ext cx="4824360" cy="1055880"/>
          </a:xfrm>
          <a:custGeom>
            <a:avLst/>
            <a:gdLst/>
            <a:ahLst/>
            <a:rect l="l" t="t" r="r" b="b"/>
            <a:pathLst>
              <a:path w="3160" h="756">
                <a:moveTo>
                  <a:pt x="1255" y="23"/>
                </a:moveTo>
                <a:cubicBezTo>
                  <a:pt x="1059" y="23"/>
                  <a:pt x="771" y="99"/>
                  <a:pt x="620" y="114"/>
                </a:cubicBezTo>
                <a:cubicBezTo>
                  <a:pt x="469" y="129"/>
                  <a:pt x="439" y="99"/>
                  <a:pt x="348" y="114"/>
                </a:cubicBezTo>
                <a:cubicBezTo>
                  <a:pt x="257" y="129"/>
                  <a:pt x="113" y="121"/>
                  <a:pt x="75" y="204"/>
                </a:cubicBezTo>
                <a:cubicBezTo>
                  <a:pt x="37" y="287"/>
                  <a:pt x="0" y="536"/>
                  <a:pt x="121" y="612"/>
                </a:cubicBezTo>
                <a:cubicBezTo>
                  <a:pt x="242" y="688"/>
                  <a:pt x="627" y="665"/>
                  <a:pt x="801" y="658"/>
                </a:cubicBezTo>
                <a:cubicBezTo>
                  <a:pt x="975" y="651"/>
                  <a:pt x="1058" y="575"/>
                  <a:pt x="1164" y="567"/>
                </a:cubicBezTo>
                <a:cubicBezTo>
                  <a:pt x="1270" y="559"/>
                  <a:pt x="1345" y="612"/>
                  <a:pt x="1436" y="612"/>
                </a:cubicBezTo>
                <a:cubicBezTo>
                  <a:pt x="1527" y="612"/>
                  <a:pt x="1519" y="552"/>
                  <a:pt x="1708" y="567"/>
                </a:cubicBezTo>
                <a:cubicBezTo>
                  <a:pt x="1897" y="582"/>
                  <a:pt x="2335" y="756"/>
                  <a:pt x="2570" y="703"/>
                </a:cubicBezTo>
                <a:cubicBezTo>
                  <a:pt x="2805" y="650"/>
                  <a:pt x="3070" y="363"/>
                  <a:pt x="3115" y="250"/>
                </a:cubicBezTo>
                <a:cubicBezTo>
                  <a:pt x="3160" y="137"/>
                  <a:pt x="3061" y="46"/>
                  <a:pt x="2842" y="23"/>
                </a:cubicBezTo>
                <a:cubicBezTo>
                  <a:pt x="2623" y="0"/>
                  <a:pt x="2056" y="114"/>
                  <a:pt x="1799" y="114"/>
                </a:cubicBezTo>
                <a:cubicBezTo>
                  <a:pt x="1542" y="114"/>
                  <a:pt x="1451" y="23"/>
                  <a:pt x="1255" y="23"/>
                </a:cubicBezTo>
                <a:close/>
              </a:path>
            </a:pathLst>
          </a:custGeom>
          <a:solidFill>
            <a:srgbClr val="ff00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484360" y="62064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“COME” NEL PROGET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1" dur="indefinite" restart="never" nodeType="tmRoot">
          <p:childTnLst>
            <p:seq>
              <p:cTn id="902" dur="indefinite" nodeType="mainSeq">
                <p:childTnLst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0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324000" y="476280"/>
            <a:ext cx="20160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Parte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250920" y="1628640"/>
          <a:ext cx="8677080" cy="4645080"/>
        </p:xfrm>
        <a:graphic>
          <a:graphicData uri="http://schemas.openxmlformats.org/drawingml/2006/table">
            <a:tbl>
              <a:tblPr/>
              <a:tblGrid>
                <a:gridCol w="2292480"/>
                <a:gridCol w="2399760"/>
                <a:gridCol w="2751120"/>
                <a:gridCol w="1233720"/>
              </a:tblGrid>
              <a:tr h="49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s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zio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ggetti coinvol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pist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91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se monitoragg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centi, Collegio, Consiglio di Istituto Consigli di Classe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ociazioni di sett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i locali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no scolastico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2006/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4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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er satisfacton degli alliev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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zione finale del docente con feedba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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aborazione dei risultati della certificazi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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blicazione dati sul sito di appogg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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itoraggio finale e Rilancio de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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etto per l’anno successiv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20" name=""/>
          <p:cNvSpPr/>
          <p:nvPr/>
        </p:nvSpPr>
        <p:spPr>
          <a:xfrm>
            <a:off x="2340000" y="333360"/>
            <a:ext cx="4824360" cy="1055880"/>
          </a:xfrm>
          <a:custGeom>
            <a:avLst/>
            <a:gdLst/>
            <a:ahLst/>
            <a:rect l="l" t="t" r="r" b="b"/>
            <a:pathLst>
              <a:path w="3160" h="756">
                <a:moveTo>
                  <a:pt x="1255" y="23"/>
                </a:moveTo>
                <a:cubicBezTo>
                  <a:pt x="1059" y="23"/>
                  <a:pt x="771" y="99"/>
                  <a:pt x="620" y="114"/>
                </a:cubicBezTo>
                <a:cubicBezTo>
                  <a:pt x="469" y="129"/>
                  <a:pt x="439" y="99"/>
                  <a:pt x="348" y="114"/>
                </a:cubicBezTo>
                <a:cubicBezTo>
                  <a:pt x="257" y="129"/>
                  <a:pt x="113" y="121"/>
                  <a:pt x="75" y="204"/>
                </a:cubicBezTo>
                <a:cubicBezTo>
                  <a:pt x="37" y="287"/>
                  <a:pt x="0" y="536"/>
                  <a:pt x="121" y="612"/>
                </a:cubicBezTo>
                <a:cubicBezTo>
                  <a:pt x="242" y="688"/>
                  <a:pt x="627" y="665"/>
                  <a:pt x="801" y="658"/>
                </a:cubicBezTo>
                <a:cubicBezTo>
                  <a:pt x="975" y="651"/>
                  <a:pt x="1058" y="575"/>
                  <a:pt x="1164" y="567"/>
                </a:cubicBezTo>
                <a:cubicBezTo>
                  <a:pt x="1270" y="559"/>
                  <a:pt x="1345" y="612"/>
                  <a:pt x="1436" y="612"/>
                </a:cubicBezTo>
                <a:cubicBezTo>
                  <a:pt x="1527" y="612"/>
                  <a:pt x="1519" y="552"/>
                  <a:pt x="1708" y="567"/>
                </a:cubicBezTo>
                <a:cubicBezTo>
                  <a:pt x="1897" y="582"/>
                  <a:pt x="2335" y="756"/>
                  <a:pt x="2570" y="703"/>
                </a:cubicBezTo>
                <a:cubicBezTo>
                  <a:pt x="2805" y="650"/>
                  <a:pt x="3070" y="363"/>
                  <a:pt x="3115" y="250"/>
                </a:cubicBezTo>
                <a:cubicBezTo>
                  <a:pt x="3160" y="137"/>
                  <a:pt x="3061" y="46"/>
                  <a:pt x="2842" y="23"/>
                </a:cubicBezTo>
                <a:cubicBezTo>
                  <a:pt x="2623" y="0"/>
                  <a:pt x="2056" y="114"/>
                  <a:pt x="1799" y="114"/>
                </a:cubicBezTo>
                <a:cubicBezTo>
                  <a:pt x="1542" y="114"/>
                  <a:pt x="1451" y="23"/>
                  <a:pt x="1255" y="23"/>
                </a:cubicBezTo>
                <a:close/>
              </a:path>
            </a:pathLst>
          </a:custGeom>
          <a:solidFill>
            <a:srgbClr val="ff00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484360" y="62064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“COME” NEL PROGET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1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250920" y="476280"/>
            <a:ext cx="208908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Parte 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340000" y="333360"/>
            <a:ext cx="4824360" cy="1055880"/>
          </a:xfrm>
          <a:custGeom>
            <a:avLst/>
            <a:gdLst/>
            <a:ahLst/>
            <a:rect l="l" t="t" r="r" b="b"/>
            <a:pathLst>
              <a:path w="3160" h="756">
                <a:moveTo>
                  <a:pt x="1255" y="23"/>
                </a:moveTo>
                <a:cubicBezTo>
                  <a:pt x="1059" y="23"/>
                  <a:pt x="771" y="99"/>
                  <a:pt x="620" y="114"/>
                </a:cubicBezTo>
                <a:cubicBezTo>
                  <a:pt x="469" y="129"/>
                  <a:pt x="439" y="99"/>
                  <a:pt x="348" y="114"/>
                </a:cubicBezTo>
                <a:cubicBezTo>
                  <a:pt x="257" y="129"/>
                  <a:pt x="113" y="121"/>
                  <a:pt x="75" y="204"/>
                </a:cubicBezTo>
                <a:cubicBezTo>
                  <a:pt x="37" y="287"/>
                  <a:pt x="0" y="536"/>
                  <a:pt x="121" y="612"/>
                </a:cubicBezTo>
                <a:cubicBezTo>
                  <a:pt x="242" y="688"/>
                  <a:pt x="627" y="665"/>
                  <a:pt x="801" y="658"/>
                </a:cubicBezTo>
                <a:cubicBezTo>
                  <a:pt x="975" y="651"/>
                  <a:pt x="1058" y="575"/>
                  <a:pt x="1164" y="567"/>
                </a:cubicBezTo>
                <a:cubicBezTo>
                  <a:pt x="1270" y="559"/>
                  <a:pt x="1345" y="612"/>
                  <a:pt x="1436" y="612"/>
                </a:cubicBezTo>
                <a:cubicBezTo>
                  <a:pt x="1527" y="612"/>
                  <a:pt x="1519" y="552"/>
                  <a:pt x="1708" y="567"/>
                </a:cubicBezTo>
                <a:cubicBezTo>
                  <a:pt x="1897" y="582"/>
                  <a:pt x="2335" y="756"/>
                  <a:pt x="2570" y="703"/>
                </a:cubicBezTo>
                <a:cubicBezTo>
                  <a:pt x="2805" y="650"/>
                  <a:pt x="3070" y="363"/>
                  <a:pt x="3115" y="250"/>
                </a:cubicBezTo>
                <a:cubicBezTo>
                  <a:pt x="3160" y="137"/>
                  <a:pt x="3061" y="46"/>
                  <a:pt x="2842" y="23"/>
                </a:cubicBezTo>
                <a:cubicBezTo>
                  <a:pt x="2623" y="0"/>
                  <a:pt x="2056" y="114"/>
                  <a:pt x="1799" y="114"/>
                </a:cubicBezTo>
                <a:cubicBezTo>
                  <a:pt x="1542" y="114"/>
                  <a:pt x="1451" y="23"/>
                  <a:pt x="1255" y="23"/>
                </a:cubicBezTo>
                <a:close/>
              </a:path>
            </a:pathLst>
          </a:custGeom>
          <a:solidFill>
            <a:srgbClr val="ff00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484360" y="62064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“COME” NEL PROGET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4920" y="119700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24000" y="1413000"/>
            <a:ext cx="8712000" cy="1008000"/>
          </a:xfrm>
          <a:prstGeom prst="rect">
            <a:avLst/>
          </a:prstGeom>
          <a:solidFill>
            <a:srgbClr val="cccc0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APPENDICE DI PROCEDURA PER IL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RICONDIZIONA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5638400">
            <a:off x="2277000" y="249120"/>
            <a:ext cx="3568680" cy="8053560"/>
          </a:xfrm>
          <a:custGeom>
            <a:avLst/>
            <a:gdLst/>
            <a:ahLst/>
            <a:rect l="l" t="t" r="r" b="b"/>
            <a:pathLst>
              <a:path w="4793" h="2934">
                <a:moveTo>
                  <a:pt x="666" y="2449"/>
                </a:moveTo>
                <a:cubicBezTo>
                  <a:pt x="742" y="2207"/>
                  <a:pt x="560" y="1678"/>
                  <a:pt x="530" y="1406"/>
                </a:cubicBezTo>
                <a:cubicBezTo>
                  <a:pt x="500" y="1134"/>
                  <a:pt x="440" y="907"/>
                  <a:pt x="485" y="816"/>
                </a:cubicBezTo>
                <a:cubicBezTo>
                  <a:pt x="530" y="725"/>
                  <a:pt x="636" y="907"/>
                  <a:pt x="802" y="862"/>
                </a:cubicBezTo>
                <a:cubicBezTo>
                  <a:pt x="968" y="817"/>
                  <a:pt x="1362" y="529"/>
                  <a:pt x="1483" y="544"/>
                </a:cubicBezTo>
                <a:cubicBezTo>
                  <a:pt x="1604" y="559"/>
                  <a:pt x="1415" y="1027"/>
                  <a:pt x="1528" y="952"/>
                </a:cubicBezTo>
                <a:cubicBezTo>
                  <a:pt x="1641" y="877"/>
                  <a:pt x="1982" y="182"/>
                  <a:pt x="2163" y="91"/>
                </a:cubicBezTo>
                <a:cubicBezTo>
                  <a:pt x="2344" y="0"/>
                  <a:pt x="2374" y="385"/>
                  <a:pt x="2616" y="408"/>
                </a:cubicBezTo>
                <a:cubicBezTo>
                  <a:pt x="2858" y="431"/>
                  <a:pt x="3508" y="129"/>
                  <a:pt x="3614" y="227"/>
                </a:cubicBezTo>
                <a:cubicBezTo>
                  <a:pt x="3720" y="325"/>
                  <a:pt x="3290" y="824"/>
                  <a:pt x="3252" y="998"/>
                </a:cubicBezTo>
                <a:cubicBezTo>
                  <a:pt x="3214" y="1172"/>
                  <a:pt x="3335" y="1300"/>
                  <a:pt x="3388" y="1270"/>
                </a:cubicBezTo>
                <a:cubicBezTo>
                  <a:pt x="3441" y="1240"/>
                  <a:pt x="3426" y="854"/>
                  <a:pt x="3569" y="816"/>
                </a:cubicBezTo>
                <a:cubicBezTo>
                  <a:pt x="3712" y="778"/>
                  <a:pt x="4083" y="1013"/>
                  <a:pt x="4249" y="1043"/>
                </a:cubicBezTo>
                <a:cubicBezTo>
                  <a:pt x="4415" y="1073"/>
                  <a:pt x="4506" y="930"/>
                  <a:pt x="4567" y="998"/>
                </a:cubicBezTo>
                <a:cubicBezTo>
                  <a:pt x="4628" y="1066"/>
                  <a:pt x="4793" y="1187"/>
                  <a:pt x="4612" y="1451"/>
                </a:cubicBezTo>
                <a:cubicBezTo>
                  <a:pt x="4431" y="1715"/>
                  <a:pt x="4121" y="2373"/>
                  <a:pt x="3478" y="2585"/>
                </a:cubicBezTo>
                <a:cubicBezTo>
                  <a:pt x="2835" y="2797"/>
                  <a:pt x="1309" y="2669"/>
                  <a:pt x="757" y="2722"/>
                </a:cubicBezTo>
                <a:cubicBezTo>
                  <a:pt x="205" y="2775"/>
                  <a:pt x="280" y="2880"/>
                  <a:pt x="167" y="2903"/>
                </a:cubicBezTo>
                <a:cubicBezTo>
                  <a:pt x="54" y="2926"/>
                  <a:pt x="0" y="2934"/>
                  <a:pt x="76" y="2858"/>
                </a:cubicBezTo>
                <a:cubicBezTo>
                  <a:pt x="152" y="2782"/>
                  <a:pt x="590" y="2691"/>
                  <a:pt x="666" y="2449"/>
                </a:cubicBezTo>
                <a:close/>
              </a:path>
            </a:pathLst>
          </a:custGeom>
          <a:gradFill rotWithShape="0">
            <a:gsLst>
              <a:gs pos="0">
                <a:srgbClr val="cccc00"/>
              </a:gs>
              <a:gs pos="100000">
                <a:srgbClr val="99cc00">
                  <a:alpha val="0"/>
                </a:srgbClr>
              </a:gs>
            </a:gsLst>
            <a:lin ang="194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203640" y="2492280"/>
            <a:ext cx="4680000" cy="29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0000"/>
                </a:solidFill>
                <a:uFillTx/>
                <a:latin typeface="Arial Black"/>
              </a:rPr>
              <a:t>OBIET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660066"/>
                </a:solidFill>
                <a:latin typeface="Arial Black"/>
              </a:rPr>
              <a:t>Potenziamento Delle Strutture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informatiche attraverso la </a:t>
            </a:r>
            <a:r>
              <a:rPr b="1" lang="it-IT" sz="3200" spc="-1" strike="noStrike">
                <a:solidFill>
                  <a:srgbClr val="333399"/>
                </a:solidFill>
                <a:latin typeface="Arial Black"/>
              </a:rPr>
              <a:t>donazione</a:t>
            </a:r>
            <a:r>
              <a:rPr b="1" lang="it-IT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i Computer ricondizionati Open-Source alle scuol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229600" cy="1143000"/>
          </a:xfrm>
          <a:prstGeom prst="rect">
            <a:avLst/>
          </a:prstGeom>
          <a:solidFill>
            <a:srgbClr val="00626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a Form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 rot="20802600">
            <a:off x="533520" y="1730160"/>
            <a:ext cx="3671640" cy="1368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 rot="634800">
            <a:off x="4039920" y="1749240"/>
            <a:ext cx="4619520" cy="1287360"/>
          </a:xfrm>
          <a:prstGeom prst="rect">
            <a:avLst/>
          </a:prstGeom>
          <a:ln w="0">
            <a:noFill/>
          </a:ln>
        </p:spPr>
      </p:pic>
      <p:grpSp>
        <p:nvGrpSpPr>
          <p:cNvPr id="98" name=""/>
          <p:cNvGrpSpPr/>
          <p:nvPr/>
        </p:nvGrpSpPr>
        <p:grpSpPr>
          <a:xfrm>
            <a:off x="1476360" y="5229360"/>
            <a:ext cx="6192720" cy="863640"/>
            <a:chOff x="1476360" y="5229360"/>
            <a:chExt cx="6192720" cy="863640"/>
          </a:xfrm>
        </p:grpSpPr>
        <p:pic>
          <p:nvPicPr>
            <p:cNvPr id="99" name="" descr=""/>
            <p:cNvPicPr/>
            <p:nvPr/>
          </p:nvPicPr>
          <p:blipFill>
            <a:blip r:embed="rId3"/>
            <a:stretch/>
          </p:blipFill>
          <p:spPr>
            <a:xfrm>
              <a:off x="1476360" y="5229360"/>
              <a:ext cx="4092480" cy="83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4"/>
            <a:stretch/>
          </p:blipFill>
          <p:spPr>
            <a:xfrm>
              <a:off x="5580000" y="5229360"/>
              <a:ext cx="2089080" cy="86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1619280" y="2997360"/>
            <a:ext cx="6265800" cy="19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on acquisizione della certificazione</a:t>
            </a:r>
            <a:r>
              <a:rPr b="1" lang="it-IT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99"/>
                </a:solidFill>
                <a:latin typeface="Arial"/>
              </a:rPr>
              <a:t>IT Administra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356000" y="4941720"/>
            <a:ext cx="86544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62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5508720" y="4797360"/>
            <a:ext cx="1342800" cy="852480"/>
          </a:xfrm>
          <a:custGeom>
            <a:avLst/>
            <a:gdLst/>
            <a:ahLst/>
            <a:rect l="l" t="t" r="r" b="b"/>
            <a:pathLst>
              <a:path w="846" h="537">
                <a:moveTo>
                  <a:pt x="287" y="60"/>
                </a:moveTo>
                <a:cubicBezTo>
                  <a:pt x="227" y="90"/>
                  <a:pt x="98" y="151"/>
                  <a:pt x="60" y="196"/>
                </a:cubicBezTo>
                <a:cubicBezTo>
                  <a:pt x="22" y="241"/>
                  <a:pt x="60" y="294"/>
                  <a:pt x="60" y="332"/>
                </a:cubicBezTo>
                <a:cubicBezTo>
                  <a:pt x="60" y="370"/>
                  <a:pt x="0" y="393"/>
                  <a:pt x="60" y="423"/>
                </a:cubicBezTo>
                <a:cubicBezTo>
                  <a:pt x="120" y="453"/>
                  <a:pt x="295" y="537"/>
                  <a:pt x="423" y="514"/>
                </a:cubicBezTo>
                <a:cubicBezTo>
                  <a:pt x="551" y="491"/>
                  <a:pt x="816" y="347"/>
                  <a:pt x="831" y="287"/>
                </a:cubicBezTo>
                <a:cubicBezTo>
                  <a:pt x="846" y="227"/>
                  <a:pt x="582" y="196"/>
                  <a:pt x="514" y="151"/>
                </a:cubicBezTo>
                <a:cubicBezTo>
                  <a:pt x="446" y="106"/>
                  <a:pt x="461" y="30"/>
                  <a:pt x="423" y="15"/>
                </a:cubicBezTo>
                <a:cubicBezTo>
                  <a:pt x="385" y="0"/>
                  <a:pt x="347" y="30"/>
                  <a:pt x="287" y="60"/>
                </a:cubicBezTo>
                <a:close/>
              </a:path>
            </a:pathLst>
          </a:custGeom>
          <a:solidFill>
            <a:srgbClr val="ffff00">
              <a:alpha val="34000"/>
            </a:srgbClr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724360" y="3573360"/>
            <a:ext cx="1343160" cy="852480"/>
          </a:xfrm>
          <a:custGeom>
            <a:avLst/>
            <a:gdLst/>
            <a:ahLst/>
            <a:rect l="l" t="t" r="r" b="b"/>
            <a:pathLst>
              <a:path w="846" h="537">
                <a:moveTo>
                  <a:pt x="287" y="60"/>
                </a:moveTo>
                <a:cubicBezTo>
                  <a:pt x="227" y="90"/>
                  <a:pt x="98" y="151"/>
                  <a:pt x="60" y="196"/>
                </a:cubicBezTo>
                <a:cubicBezTo>
                  <a:pt x="22" y="241"/>
                  <a:pt x="60" y="294"/>
                  <a:pt x="60" y="332"/>
                </a:cubicBezTo>
                <a:cubicBezTo>
                  <a:pt x="60" y="370"/>
                  <a:pt x="0" y="393"/>
                  <a:pt x="60" y="423"/>
                </a:cubicBezTo>
                <a:cubicBezTo>
                  <a:pt x="120" y="453"/>
                  <a:pt x="295" y="537"/>
                  <a:pt x="423" y="514"/>
                </a:cubicBezTo>
                <a:cubicBezTo>
                  <a:pt x="551" y="491"/>
                  <a:pt x="816" y="347"/>
                  <a:pt x="831" y="287"/>
                </a:cubicBezTo>
                <a:cubicBezTo>
                  <a:pt x="846" y="227"/>
                  <a:pt x="582" y="196"/>
                  <a:pt x="514" y="151"/>
                </a:cubicBezTo>
                <a:cubicBezTo>
                  <a:pt x="446" y="106"/>
                  <a:pt x="461" y="30"/>
                  <a:pt x="423" y="15"/>
                </a:cubicBezTo>
                <a:cubicBezTo>
                  <a:pt x="385" y="0"/>
                  <a:pt x="347" y="30"/>
                  <a:pt x="287" y="60"/>
                </a:cubicBezTo>
                <a:close/>
              </a:path>
            </a:pathLst>
          </a:custGeom>
          <a:solidFill>
            <a:srgbClr val="ffff00">
              <a:alpha val="34000"/>
            </a:srgbClr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0920" y="476280"/>
            <a:ext cx="208908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Parte 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340000" y="333360"/>
            <a:ext cx="4824360" cy="1055880"/>
          </a:xfrm>
          <a:custGeom>
            <a:avLst/>
            <a:gdLst/>
            <a:ahLst/>
            <a:rect l="l" t="t" r="r" b="b"/>
            <a:pathLst>
              <a:path w="3160" h="756">
                <a:moveTo>
                  <a:pt x="1255" y="23"/>
                </a:moveTo>
                <a:cubicBezTo>
                  <a:pt x="1059" y="23"/>
                  <a:pt x="771" y="99"/>
                  <a:pt x="620" y="114"/>
                </a:cubicBezTo>
                <a:cubicBezTo>
                  <a:pt x="469" y="129"/>
                  <a:pt x="439" y="99"/>
                  <a:pt x="348" y="114"/>
                </a:cubicBezTo>
                <a:cubicBezTo>
                  <a:pt x="257" y="129"/>
                  <a:pt x="113" y="121"/>
                  <a:pt x="75" y="204"/>
                </a:cubicBezTo>
                <a:cubicBezTo>
                  <a:pt x="37" y="287"/>
                  <a:pt x="0" y="536"/>
                  <a:pt x="121" y="612"/>
                </a:cubicBezTo>
                <a:cubicBezTo>
                  <a:pt x="242" y="688"/>
                  <a:pt x="627" y="665"/>
                  <a:pt x="801" y="658"/>
                </a:cubicBezTo>
                <a:cubicBezTo>
                  <a:pt x="975" y="651"/>
                  <a:pt x="1058" y="575"/>
                  <a:pt x="1164" y="567"/>
                </a:cubicBezTo>
                <a:cubicBezTo>
                  <a:pt x="1270" y="559"/>
                  <a:pt x="1345" y="612"/>
                  <a:pt x="1436" y="612"/>
                </a:cubicBezTo>
                <a:cubicBezTo>
                  <a:pt x="1527" y="612"/>
                  <a:pt x="1519" y="552"/>
                  <a:pt x="1708" y="567"/>
                </a:cubicBezTo>
                <a:cubicBezTo>
                  <a:pt x="1897" y="582"/>
                  <a:pt x="2335" y="756"/>
                  <a:pt x="2570" y="703"/>
                </a:cubicBezTo>
                <a:cubicBezTo>
                  <a:pt x="2805" y="650"/>
                  <a:pt x="3070" y="363"/>
                  <a:pt x="3115" y="250"/>
                </a:cubicBezTo>
                <a:cubicBezTo>
                  <a:pt x="3160" y="137"/>
                  <a:pt x="3061" y="46"/>
                  <a:pt x="2842" y="23"/>
                </a:cubicBezTo>
                <a:cubicBezTo>
                  <a:pt x="2623" y="0"/>
                  <a:pt x="2056" y="114"/>
                  <a:pt x="1799" y="114"/>
                </a:cubicBezTo>
                <a:cubicBezTo>
                  <a:pt x="1542" y="114"/>
                  <a:pt x="1451" y="23"/>
                  <a:pt x="1255" y="23"/>
                </a:cubicBezTo>
                <a:close/>
              </a:path>
            </a:pathLst>
          </a:custGeom>
          <a:solidFill>
            <a:srgbClr val="ff00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484360" y="62064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“COME” NEL PROGET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95280" y="1413000"/>
            <a:ext cx="8353440" cy="1008000"/>
          </a:xfrm>
          <a:prstGeom prst="rect">
            <a:avLst/>
          </a:prstGeom>
          <a:solidFill>
            <a:srgbClr val="cccc0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APPENDICE DI PROCEDURA PER IL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RICONDIZIONA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rot="768000">
            <a:off x="4858920" y="234900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preve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24000" y="2637000"/>
            <a:ext cx="414000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Black"/>
              </a:rPr>
              <a:t>Rapporto contrattuale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 con il territorio e le scu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24000" y="4365720"/>
            <a:ext cx="493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Black"/>
              </a:rPr>
              <a:t>Rapporto progettuale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Arial Black"/>
              </a:rPr>
              <a:t>e operativo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 degli “R” c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940360" y="3860640"/>
            <a:ext cx="316872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P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referenti provincial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724360" y="4941720"/>
            <a:ext cx="338472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referenti nelle scuo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2700000" y="2852640"/>
            <a:ext cx="2808360" cy="0"/>
          </a:xfrm>
          <a:prstGeom prst="line">
            <a:avLst/>
          </a:prstGeom>
          <a:ln w="7632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3780000" y="2852640"/>
            <a:ext cx="1800000" cy="1584360"/>
          </a:xfrm>
          <a:prstGeom prst="line">
            <a:avLst/>
          </a:prstGeom>
          <a:ln w="7632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79280" y="2492280"/>
            <a:ext cx="2174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08000" y="4149720"/>
            <a:ext cx="2174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292720" y="3573360"/>
            <a:ext cx="360360" cy="2592360"/>
          </a:xfrm>
          <a:custGeom>
            <a:avLst/>
            <a:gdLst>
              <a:gd name="textAreaLeft" fmla="*/ 230400 w 360360"/>
              <a:gd name="textAreaRight" fmla="*/ 360720 w 36036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7632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651640" y="3933720"/>
            <a:ext cx="21744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580000" y="4941720"/>
            <a:ext cx="21744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5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7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7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8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8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476280"/>
            <a:ext cx="9144000" cy="4597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STA DI LAVORO, TESI RIASSUNTIVA DI GRUP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68360" y="4005360"/>
            <a:ext cx="4427640" cy="2233440"/>
          </a:xfrm>
          <a:prstGeom prst="ellipse">
            <a:avLst/>
          </a:prstGeom>
          <a:solidFill>
            <a:srgbClr val="ff3399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HARMO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- Modello per siti scolastici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390920" y="4149720"/>
            <a:ext cx="4753080" cy="2087640"/>
          </a:xfrm>
          <a:prstGeom prst="ellipse">
            <a:avLst/>
          </a:prstGeom>
          <a:solidFill>
            <a:srgbClr val="009999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660066"/>
                </a:solidFill>
                <a:latin typeface="Arial"/>
              </a:rPr>
              <a:t>Il Portfolio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elle competenze informati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132000" y="2349360"/>
            <a:ext cx="3024360" cy="2160720"/>
          </a:xfrm>
          <a:prstGeom prst="ellipse">
            <a:avLst/>
          </a:prstGeom>
          <a:solidFill>
            <a:srgbClr val="660066">
              <a:alpha val="24000"/>
            </a:srgbClr>
          </a:solidFill>
          <a:ln cap="rnd" w="76320">
            <a:solidFill>
              <a:srgbClr val="ebcec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TRUMEN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268360" y="3645000"/>
            <a:ext cx="959040" cy="396720"/>
          </a:xfrm>
          <a:custGeom>
            <a:avLst/>
            <a:gdLst/>
            <a:ahLst/>
            <a:rect l="l" t="t" r="r" b="b"/>
            <a:pathLst>
              <a:path w="604" h="250">
                <a:moveTo>
                  <a:pt x="604" y="23"/>
                </a:moveTo>
                <a:cubicBezTo>
                  <a:pt x="415" y="11"/>
                  <a:pt x="226" y="0"/>
                  <a:pt x="196" y="23"/>
                </a:cubicBezTo>
                <a:cubicBezTo>
                  <a:pt x="166" y="46"/>
                  <a:pt x="446" y="136"/>
                  <a:pt x="423" y="159"/>
                </a:cubicBezTo>
                <a:cubicBezTo>
                  <a:pt x="400" y="182"/>
                  <a:pt x="120" y="144"/>
                  <a:pt x="60" y="159"/>
                </a:cubicBezTo>
                <a:cubicBezTo>
                  <a:pt x="0" y="174"/>
                  <a:pt x="30" y="212"/>
                  <a:pt x="60" y="250"/>
                </a:cubicBezTo>
              </a:path>
            </a:pathLst>
          </a:custGeom>
          <a:noFill/>
          <a:ln w="76320">
            <a:solidFill>
              <a:srgbClr val="66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084720" y="3789360"/>
            <a:ext cx="731880" cy="431640"/>
          </a:xfrm>
          <a:custGeom>
            <a:avLst/>
            <a:gdLst/>
            <a:ahLst/>
            <a:rect l="l" t="t" r="r" b="b"/>
            <a:pathLst>
              <a:path w="461" h="272">
                <a:moveTo>
                  <a:pt x="0" y="0"/>
                </a:moveTo>
                <a:cubicBezTo>
                  <a:pt x="192" y="7"/>
                  <a:pt x="385" y="15"/>
                  <a:pt x="408" y="45"/>
                </a:cubicBezTo>
                <a:cubicBezTo>
                  <a:pt x="431" y="75"/>
                  <a:pt x="136" y="151"/>
                  <a:pt x="136" y="181"/>
                </a:cubicBezTo>
                <a:cubicBezTo>
                  <a:pt x="136" y="211"/>
                  <a:pt x="355" y="212"/>
                  <a:pt x="408" y="227"/>
                </a:cubicBezTo>
                <a:cubicBezTo>
                  <a:pt x="461" y="242"/>
                  <a:pt x="457" y="257"/>
                  <a:pt x="454" y="272"/>
                </a:cubicBezTo>
              </a:path>
            </a:pathLst>
          </a:custGeom>
          <a:noFill/>
          <a:ln w="76320">
            <a:solidFill>
              <a:srgbClr val="66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7632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187280" y="981000"/>
            <a:ext cx="6696360" cy="9471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ETTO DI CONVERGENZA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R”, “P”, “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140360" y="1916280"/>
            <a:ext cx="86508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1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324000" y="765000"/>
            <a:ext cx="8424720" cy="10688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ELLO CHE NEL DOPO NOI “R” ABBIAMO FATTO A BRES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24000" y="1989000"/>
            <a:ext cx="7561080" cy="825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BBIAMO OTTENUTO COMPUTER DONATI DA RICONDIZIONARE OPEN SOUR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050920" y="2924280"/>
            <a:ext cx="64087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L CREDITO COOPERATIVO DI BRES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L BANCO ARCUDI DEL SIAM DI MIL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 ASM DI BRES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611280" y="1052640"/>
            <a:ext cx="360036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 DONAZIO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692360" y="1916280"/>
            <a:ext cx="619272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PARTE SONO NELLE NOSTRE SCU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ARTE SONO IN ATTESA DI UTILIZZO, TRASVERSALE TRA SCUOLE, PRESSO L’ISTITUTO  LUNAR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3" dur="indefinite" restart="never" nodeType="tmRoot">
          <p:childTnLst>
            <p:seq>
              <p:cTn id="1024" dur="indefinite" nodeType="mainSeq">
                <p:childTnLst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4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250920" y="5084640"/>
            <a:ext cx="871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Tutte queste macchine saranno dotate, contemporaneamente, sia del software MS Windows che del software OpenSource (Linux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476280"/>
            <a:ext cx="6335640" cy="1068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 richiesta di donazione dei PC nuovi è finalizzata all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258920" y="1773360"/>
            <a:ext cx="72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lizzazione di un Laboratorio Informatico comple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700360" y="3068640"/>
            <a:ext cx="597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omposto da un Server e da dodici computer 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700360" y="4076640"/>
            <a:ext cx="59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 di una Lavagna Interattiva Multimediale (LI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1280" y="3213000"/>
            <a:ext cx="28908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411280" y="4221000"/>
            <a:ext cx="28908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5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5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59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250920" y="476280"/>
            <a:ext cx="7056360" cy="1068840"/>
          </a:xfrm>
          <a:prstGeom prst="rect">
            <a:avLst/>
          </a:prstGeom>
          <a:solidFill>
            <a:srgbClr val="333399"/>
          </a:solidFill>
          <a:ln w="9360">
            <a:solidFill>
              <a:srgbClr val="0062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l Laboratorio ci permetterà di organizzar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187280" y="191628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centro di aggregazione tra R, P,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187280" y="2637000"/>
            <a:ext cx="66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centro di formazione con il concorso di R, P,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258920" y="371628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a Sede per la preparazione di certificazioni informatiche (ECDL, EUCIP IT ADMINIST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55640" y="1989000"/>
            <a:ext cx="431640" cy="289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55640" y="2708280"/>
            <a:ext cx="431640" cy="289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55640" y="3860640"/>
            <a:ext cx="431640" cy="289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8" dur="indefinite" restart="never" nodeType="tmRoot">
          <p:childTnLst>
            <p:seq>
              <p:cTn id="1069" dur="indefinite" nodeType="mainSeq">
                <p:childTnLst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74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7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82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8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90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95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9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763640" y="105264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redi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484360" y="2349360"/>
            <a:ext cx="4680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tonio Agnel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ra Antic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urizio Na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971640" y="2637000"/>
            <a:ext cx="720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-3594240" y="27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059280" y="981000"/>
            <a:ext cx="54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39640" y="2133720"/>
            <a:ext cx="835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istruzione.lombardia.it/comunic/comunic05/mag05/cprot9958_05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84360" y="2997360"/>
            <a:ext cx="374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harmonia.cefriel.i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84360" y="3933720"/>
            <a:ext cx="784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siam1838.it/progetti/aica_usr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39640" y="2133720"/>
            <a:ext cx="835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istruzione.lombardia.it/comunic/comunic05/mag05/cprot9958_05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229600" cy="1143000"/>
          </a:xfrm>
          <a:prstGeom prst="rect">
            <a:avLst/>
          </a:prstGeom>
          <a:solidFill>
            <a:srgbClr val="00626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a Form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 rot="634800">
            <a:off x="4039920" y="1749240"/>
            <a:ext cx="4619520" cy="12873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0" y="3645000"/>
            <a:ext cx="370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o è il sito di riferimento per i corsi tenuti al CEFRIEL per i gruppi R e P nell'ambito del progetto AICA - US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659640" y="4508640"/>
            <a:ext cx="223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roje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armonia</a:t>
            </a:r>
            <a:r>
              <a:rPr b="0" lang="it-IT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UML</a:t>
            </a:r>
            <a:r>
              <a:rPr b="0" lang="it-IT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9280" y="2133720"/>
            <a:ext cx="3024360" cy="11912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ORSO AICA-U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492360" y="2997360"/>
            <a:ext cx="324180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 tematiche trattane nei due percorsi (R e P) son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116000" y="3141720"/>
            <a:ext cx="6769080" cy="14346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Project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 rot="634800">
            <a:off x="5043600" y="1279440"/>
            <a:ext cx="3598920" cy="100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627280" y="5373720"/>
            <a:ext cx="59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http://aica-usr.cefriel.it/Corso-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6840360" cy="4168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229600" cy="1143000"/>
          </a:xfrm>
          <a:prstGeom prst="rect">
            <a:avLst/>
          </a:prstGeom>
          <a:solidFill>
            <a:srgbClr val="00626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a Form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 rot="634800">
            <a:off x="4039920" y="1749240"/>
            <a:ext cx="4619520" cy="12873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987640" y="4941720"/>
            <a:ext cx="5977080" cy="1068840"/>
          </a:xfrm>
          <a:prstGeom prst="rect">
            <a:avLst/>
          </a:prstGeom>
          <a:solidFill>
            <a:srgbClr val="bbe0e3"/>
          </a:solidFill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 gestione dei progetti utilizzando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icrosoft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80000" y="3789360"/>
            <a:ext cx="3313080" cy="10083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GANT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00720" y="4724280"/>
            <a:ext cx="100800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0" y="476280"/>
          <a:ext cx="9144000" cy="567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76280"/>
                    <a:ext cx="9144000" cy="56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4788000" y="5373720"/>
            <a:ext cx="3744720" cy="785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GANTT – RICONDIZION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Fase progettuale - Cefri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5879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995640" y="5229360"/>
            <a:ext cx="3745080" cy="785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GANTT – RICONDIZION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Fase progettuale - Cefri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9T21:56:52Z</dcterms:created>
  <dc:creator>FSC</dc:creator>
  <dc:description/>
  <dc:language>en-US</dc:language>
  <cp:lastModifiedBy>Laura Antichi</cp:lastModifiedBy>
  <dcterms:modified xsi:type="dcterms:W3CDTF">2007-03-16T21:40:55Z</dcterms:modified>
  <cp:revision>88</cp:revision>
  <dc:subject/>
  <dc:title>Diapositiva 1</dc:title>
</cp:coreProperties>
</file>