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95F6-49DB-43A1-B81D-CA2C794A4AC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497A-5DC3-4F8A-AA09-A9C605EB648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ritto- dovere: l’amministrazione deve provvedere affinché detta formazione venga organizzata a livello centrale e/o periferico; si configura come obbligo contrattuale e quindi elemento necessario per il passaggio in ruolo insieme all’effettuazione dei 180 giorni di servizio e al parere favorevole della Commissione di Valutazione di Istitu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biettivo formativo prioritario: deve avere la precedenza su tutte le altre iniziative di formazione poste in essere dalle scuole; in quanto obbligo contrattuale, deve avere la precedenza sugli altri obblighi collegiali degli insegnanti (tranne gli scrutin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 fa notare che per quanto riguarda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il numero delle ore e i relativi credit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le decisioni prese dall’USR sono diverse da quelle indicate dal MIUR e contenute in INDIRE: la motivazione è da ricercarsi nella tardiva attivazione della piattaforma e della relativa form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CBD7A-D645-465C-9143-88AAD506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614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6560" y="3988800"/>
            <a:ext cx="80614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6EB5D-EFFE-42A2-8B03-4FC9D169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720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6560" y="398880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7200" y="398880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B70C-B7AE-4D17-A9D9-2455F677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52480" y="169992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78040" y="169992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6560" y="398880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52480" y="398880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78040" y="398880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E8F31-4BA3-4026-BE0C-76D9E4B2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48735-6C70-4885-9A7B-528716AD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4A118-491C-4544-82AF-59AE0718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514D3-55AF-4BD7-96AC-5C689CC4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3933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7200" y="1699920"/>
            <a:ext cx="3933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86EAC-2F31-4264-A154-1AD50774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48C4B-B558-449E-91FC-3C735CA3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90040" y="266760"/>
            <a:ext cx="8325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DB67E-0151-496F-86F2-297FA23A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7200" y="1699920"/>
            <a:ext cx="3933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6560" y="398880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33288-57CB-4BCD-85BF-6BF8CF42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B68D7-677B-47D1-8F16-4376E018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3933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720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7200" y="398880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86A7D-C4AC-4BC0-B4A7-1965C40C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720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6560" y="3988800"/>
            <a:ext cx="80614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EB307-0F8E-4B13-A97E-56C14E95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614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26560" y="3988800"/>
            <a:ext cx="80614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6EEED-CF43-44B6-A5FC-124A4CD3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5720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560" y="398880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7200" y="398880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517D6-6CB4-4434-A084-0F97EB73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52480" y="169992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78040" y="169992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26560" y="398880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52480" y="398880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78040" y="398880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BFD29-18AD-4463-ACC9-06B769E5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0989F-8C34-406B-8713-DE53D33E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3933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57200" y="1699920"/>
            <a:ext cx="3933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41B60-F5C0-43D4-A575-B9192E61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91E8D-B453-472E-8411-DE3C599C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760"/>
            <a:ext cx="8325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FAD15-B56C-4F8A-A204-6BEF6DB7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699920"/>
            <a:ext cx="3933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6560" y="398880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4E45-50CA-47A9-A250-14441472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3933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7200" y="398880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E91EB-CD7E-4EAF-861D-29AAE602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720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6560" y="3988800"/>
            <a:ext cx="80614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144EF-D0BE-4BA4-BF5E-391FE646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112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A58E-3855-4C5E-8937-3A1E5912E398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436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04800" y="3619440"/>
            <a:ext cx="8523360" cy="76320"/>
            <a:chOff x="604800" y="3619440"/>
            <a:chExt cx="8523360" cy="76320"/>
          </a:xfrm>
        </p:grpSpPr>
        <p:sp>
          <p:nvSpPr>
            <p:cNvPr id="47" name=""/>
            <p:cNvSpPr/>
            <p:nvPr/>
          </p:nvSpPr>
          <p:spPr>
            <a:xfrm>
              <a:off x="604800" y="369576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04800" y="361944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11280" y="1125360"/>
            <a:ext cx="8532720" cy="358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1844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5E6E-4992-4BA5-84AB-AF3DF4E465D9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untoedu.indire.it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844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66"/>
                </a:solidFill>
                <a:latin typeface="Garamond"/>
              </a:rPr>
              <a:t>Formazione docenti a T.I. di nuova assunzione a.s. 2006-2007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131640" y="5229360"/>
            <a:ext cx="5791320" cy="67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 cura dell’ USP di Trevi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fficio Interventi Educati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cc66"/>
                </a:solidFill>
                <a:latin typeface="Garamond"/>
              </a:rPr>
              <a:t>Competenze minime di tipo informatico per poter usufruire al meglio la formazione in </a:t>
            </a:r>
            <a:r>
              <a:rPr b="0" i="1" lang="it-IT" sz="3600" spc="-1" strike="noStrike">
                <a:solidFill>
                  <a:srgbClr val="ffcc66"/>
                </a:solidFill>
                <a:latin typeface="Garamond"/>
              </a:rPr>
              <a:t>e - learning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ffffff"/>
                </a:solidFill>
                <a:uFillTx/>
                <a:latin typeface="Arial"/>
              </a:rPr>
              <a:t>Operazioni di base</a:t>
            </a: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: es. accendere-spegnere il PC, copiare file su supporti diversi 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ffffff"/>
                </a:solidFill>
                <a:uFillTx/>
                <a:latin typeface="Arial"/>
              </a:rPr>
              <a:t>Utilizzare internet a livello minimo</a:t>
            </a: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: es. accedere ad internet tramite indirizzo, ricercare informazioni 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ffffff"/>
                </a:solidFill>
                <a:uFillTx/>
                <a:latin typeface="Arial"/>
              </a:rPr>
              <a:t>Comunicare con la posta elettronica</a:t>
            </a: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: es. scaricare-inviare un messaggio con e senza allegati 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ffffff"/>
                </a:solidFill>
                <a:uFillTx/>
                <a:latin typeface="Arial"/>
              </a:rPr>
              <a:t>Utilizzare un elaboratore testi</a:t>
            </a: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: es. per scrivere un semplice documento, salvarlo, stamparlo 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BC7B2-6EAE-47AC-A209-3ADF1C06D7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66"/>
                </a:solidFill>
                <a:latin typeface="Garamond"/>
              </a:rPr>
              <a:t>Modalità per connettersi al sito INDIRE e per esplorare la piattaforma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igitare </a:t>
            </a:r>
            <a:r>
              <a:rPr b="0" lang="it-IT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puntoedu.indire.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lic su Puntoedu Neoassun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lic su “Entra nell’ambient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serire l’ID e la PW fornita dall’e-tu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lic su una delle aree attive (es. Autonomia scolastica 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B. Tutti i docenti in anno di formazione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sono già iscritt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l sistema dalla scuola di appartenen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4C974-3DEC-4398-8052-71B56AAEDE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Garamond"/>
              </a:rPr>
              <a:t>Aspetti normativi (1)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Formazione in ingresso: diritto-dovere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CLN art. 67: 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[…]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Per i docenti a tempo indeterminato di nuova assunzione l’anno di formazione trova realizzazione attraverso specifici progetti contestualizzati, anche con la collaborazione di reti e/o consorzi di scuole.[…]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Formazione in ingresso: obiettivo formativo priorit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rt 440 del Decreto legislativo n.297/94 (TU), CM 2081 7/2/2007, Circ. USRV prot./P/C12 860 12/2/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AC60-127E-4A43-A708-F865F61395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Garamond"/>
              </a:rPr>
              <a:t>Aspetti normativi (2)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Diritto- dovere: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l’amministrazione deve provvedere affinché detta formazione venga organizzata a livello centrale e/o periferico; si configura come obbligo contrattuale e quindi elemento necessario per il passaggio in ruolo, insieme all’effettuazione dei 180 giorni di servizio e al parere favorevole della Commissione di Valutazione di Istitu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Obiettivo formativo prioritari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deve avere la precedenza su tutte le altre iniziative di formazione poste in essere dalle scuole; in quanto obbligo contrattuale, dovrebbe avere la precedenza sugli altri obblighi degli insegnanti (tranne gli scrutini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8340B-2F99-49AD-B4B7-1752FA0465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Garamond"/>
              </a:rPr>
              <a:t>Aspetti normativi (3)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ersonalizzazione dei percorsi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3160" indent="-393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a proposta INDIRE è una delle opportunità di formazion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3160" indent="-393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e attività di formazione vanno connesse con l’agire concreto in classe dell’insegnante e con le altre iniziative già programmate (comprese quelle concordate con il 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tuto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di Istituto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3160" indent="-393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e attività di formazione, insieme alle altre esperienze realizzate dal docente nel corso dell’a.s., concorrono a definire l’oggetto di discussione del colloquio con la Commissione di Valutazione di Istituto (anche sottoforma di 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dossie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relazione, “tesina”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27928-8A59-4B52-94C7-3870FF0DF0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Garamond"/>
              </a:rPr>
              <a:t>Caratteristiche generali della formazione INDIRE</a:t>
            </a:r>
            <a:r>
              <a:rPr b="0" lang="it-IT" sz="4400" spc="-1" strike="noStrike" baseline="30000">
                <a:solidFill>
                  <a:srgbClr val="ffcc66"/>
                </a:solidFill>
                <a:latin typeface="Garamond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993080" cy="40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ercorso formativo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blended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12 ore on-line (equivalenti a 24 crediti), utilizzando il sistema e – learning su piattaforma INDIRE ( autocertificate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15 ore in presenza coordinate dall’e-tutor e con la partecipazione di esperti (uno o più incontr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Attestato finale se completate le ore in presenza secondo la normativa vigente (almeno 12 ore in presenza) e raggiunti i 24 crediti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baseline="30000">
                <a:solidFill>
                  <a:srgbClr val="ffffff"/>
                </a:solidFill>
                <a:latin typeface="Arial"/>
              </a:rPr>
              <a:t>1 Vedi anche Circolare USP TV prot. n. 1232-1/C12 del 19 febbraio 200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1D826-EBB2-494C-91A2-3B477613B4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Garamond"/>
              </a:rPr>
              <a:t>Contenuti della formazione INDIRE on-line (1)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Moduli formativi attinenti i seguenti argoment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utonomia scolas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Valut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testi di vita e relazio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uropa e intercul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isabilità e disagio scolast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ecnologia e didat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ingua strani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pprofondimenti disciplina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3BD24-4C12-4A84-A24C-C91FCC413C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Garamond"/>
              </a:rPr>
              <a:t>Contenuti della formazione INDIRE </a:t>
            </a:r>
            <a:r>
              <a:rPr b="0" i="1" lang="it-IT" sz="4400" spc="-1" strike="noStrike">
                <a:solidFill>
                  <a:srgbClr val="ffcc66"/>
                </a:solidFill>
                <a:latin typeface="Garamond"/>
              </a:rPr>
              <a:t>on-line</a:t>
            </a:r>
            <a:r>
              <a:rPr b="0" lang="it-IT" sz="4400" spc="-1" strike="noStrike">
                <a:solidFill>
                  <a:srgbClr val="ffcc66"/>
                </a:solidFill>
                <a:latin typeface="Garamond"/>
              </a:rPr>
              <a:t> (2)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Materiali di stud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ttività (laboratori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Fo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iso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57D77-73CD-49BD-B4EC-FE53D68F48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Garamond"/>
              </a:rPr>
              <a:t>Modalità della formazione INDIRE </a:t>
            </a:r>
            <a:r>
              <a:rPr b="0" i="1" lang="it-IT" sz="4400" spc="-1" strike="noStrike">
                <a:solidFill>
                  <a:srgbClr val="ffcc66"/>
                </a:solidFill>
                <a:latin typeface="Garamond"/>
              </a:rPr>
              <a:t>on-lin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9160" y="175428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celta di percorsi diversificati: alla conclusione di un percorso vengono assegnati dei credit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racciamento delle attività on-line (nel Registro Attività dell’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e-tuto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ossibilità da parte dell’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e-tuto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di assegnare crediti (concordati con il direttore del corso) anche per attività di studio su materiali scaricati dalle aree di approfondimento o per la partecipazione alle aree interattive (es. Forum Classe virtu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EF2D-FC60-43D7-A490-F737476E2E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splorazione della Piattaforma IND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imulazione di interattività (Forum, mailing-list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rogettazione personale (o di gruppo) del percorso di formaz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ndivisione delle esperienze didattico -metodologiche relative alle aree tematiche priorita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Garamond"/>
              </a:rPr>
              <a:t>Azioni della formazione </a:t>
            </a:r>
            <a:r>
              <a:rPr b="0" i="1" lang="it-IT" sz="4400" spc="-1" strike="noStrike">
                <a:solidFill>
                  <a:srgbClr val="ffcc66"/>
                </a:solidFill>
                <a:latin typeface="Garamond"/>
              </a:rPr>
              <a:t>in presenza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E7C37-AAB6-440E-97D8-4D8BDF7B91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07:47:16Z</dcterms:created>
  <dc:creator>gigi clama</dc:creator>
  <dc:description/>
  <dc:language>en-US</dc:language>
  <cp:lastModifiedBy>Personal Computer</cp:lastModifiedBy>
  <dcterms:modified xsi:type="dcterms:W3CDTF">2007-03-16T09:14:11Z</dcterms:modified>
  <cp:revision>109</cp:revision>
  <dc:subject/>
  <dc:title>Formazione docenti a T.I. di nuova assunzione a.s. 2004-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