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2A05-3FEC-471B-AAAB-F4F41694B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413E-9EB2-4E14-8D78-9131A1F8A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1450-B982-452B-8916-65C24F9ED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61AC-4BE9-4297-9D75-5E5156453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8176-147F-434C-A10E-027FECA66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C8C0-B62F-4BB4-939D-CFAE71F84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733F-B166-476D-B369-9F927BF0E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1290-E68F-425C-AC12-DDE17915B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845C-A5C7-484B-9BC7-956D61243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C7B5-CA30-47F2-A15E-883D209A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D023-60D2-41E5-92A1-FC10AFAE5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5D3D-2008-497D-B2A5-F46F6A33A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25419-202A-4037-B32B-18A66869F9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4360" y="1238400"/>
            <a:ext cx="2527200" cy="2609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971640" y="522360"/>
            <a:ext cx="712944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6392880"/>
            <a:ext cx="712944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80703" t="27946" r="0" b="6614"/>
          <a:stretch/>
        </p:blipFill>
        <p:spPr>
          <a:xfrm>
            <a:off x="6659640" y="103320"/>
            <a:ext cx="1441440" cy="388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00000" y="147600"/>
            <a:ext cx="525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99"/>
                </a:solidFill>
                <a:latin typeface="Arial"/>
              </a:rPr>
              <a:t>Metodi e tecniche per l’E-Tutor nella scuo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35280" y="6481800"/>
            <a:ext cx="575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99"/>
                </a:solidFill>
                <a:latin typeface="Arial"/>
              </a:rPr>
              <a:t>Modulo 3 – Gestione dell’interazione on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19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MC: strumenti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i anali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Arial"/>
              </a:rPr>
              <a:t>Analisi cmc: 3 ca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Livello di gruppo: movimenti e fas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08080" y="103320"/>
            <a:ext cx="8497800" cy="680760"/>
            <a:chOff x="208080" y="103320"/>
            <a:chExt cx="8497800" cy="680760"/>
          </a:xfrm>
        </p:grpSpPr>
        <p:pic>
          <p:nvPicPr>
            <p:cNvPr id="100" name="" descr=""/>
            <p:cNvPicPr/>
            <p:nvPr/>
          </p:nvPicPr>
          <p:blipFill>
            <a:blip r:embed="rId1"/>
            <a:stretch/>
          </p:blipFill>
          <p:spPr>
            <a:xfrm>
              <a:off x="395280" y="103320"/>
              <a:ext cx="8229600" cy="68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208080" y="765000"/>
              <a:ext cx="8497800" cy="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42920" y="404640"/>
              <a:ext cx="52563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3399"/>
                  </a:solidFill>
                  <a:latin typeface="Arial"/>
                </a:rPr>
                <a:t>Metodi e tecniche per l’E-Tutor nella scuol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611280" y="2056680"/>
            <a:ext cx="770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Berne (1981) indica 3 fasi di vita del grupp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rapporto diadico con un leader (possibile individuare se le transazioni sono a lui dirett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2. il gruppo arriva a transazioni orizzontali tra i membr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3. Il gruppo si stacca dal leader che viene rigiocato come un pari. Questa terza fase è ciò a cui punta il processo di dissolvenza del tutor (Salmon 20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Alcuni risulta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08080" y="103320"/>
            <a:ext cx="8497800" cy="680760"/>
            <a:chOff x="208080" y="103320"/>
            <a:chExt cx="8497800" cy="680760"/>
          </a:xfrm>
        </p:grpSpPr>
        <p:pic>
          <p:nvPicPr>
            <p:cNvPr id="106" name="" descr=""/>
            <p:cNvPicPr/>
            <p:nvPr/>
          </p:nvPicPr>
          <p:blipFill>
            <a:blip r:embed="rId1"/>
            <a:stretch/>
          </p:blipFill>
          <p:spPr>
            <a:xfrm>
              <a:off x="395280" y="103320"/>
              <a:ext cx="8229600" cy="68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208080" y="765000"/>
              <a:ext cx="8497800" cy="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042920" y="404640"/>
              <a:ext cx="52563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3399"/>
                  </a:solidFill>
                  <a:latin typeface="Arial"/>
                </a:rPr>
                <a:t>Metodi e tecniche per l’E-Tutor nella scuol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755640" y="2056320"/>
            <a:ext cx="770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Ottimizzazione apprendimento in forum se pertinenza comunicativa alta e apertura comunicativ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Ambiente sociale co-costruito se supporta diverse segmentazioni del t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Tutte le funzioni devono essere implementate (indicatori buona tutorshi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Sbilanciamento funzionale (moderatore – informativo e normativo / docente informativo e direttiv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alisi di contesto: 3 livell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208080" y="103320"/>
            <a:ext cx="8497800" cy="680760"/>
            <a:chOff x="208080" y="103320"/>
            <a:chExt cx="8497800" cy="68076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395280" y="103320"/>
              <a:ext cx="8229600" cy="68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208080" y="765000"/>
              <a:ext cx="8497800" cy="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042920" y="404640"/>
              <a:ext cx="52563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3399"/>
                  </a:solidFill>
                  <a:latin typeface="Arial"/>
                </a:rPr>
                <a:t>Metodi e tecniche per l’E-Tutor nella scuol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250920" y="1989000"/>
            <a:ext cx="8569080" cy="41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 Indicatori cultur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mbito e limiti riconosciuti all’autonomia individua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dalità  della presa di decis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istema di premi e punizioni (sistemi di controllo e regolazione dei proces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lleranza del conflitto, delle diversità e dell’innov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riteri e stili di gestione e di contro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Analisi dei ruoli e aspett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 Analisi dosaggi presenza-dista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92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3 Cas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208080" y="103320"/>
            <a:ext cx="8497800" cy="680760"/>
            <a:chOff x="208080" y="103320"/>
            <a:chExt cx="8497800" cy="680760"/>
          </a:xfrm>
        </p:grpSpPr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395280" y="103320"/>
              <a:ext cx="8229600" cy="68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208080" y="765000"/>
              <a:ext cx="8497800" cy="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42920" y="404640"/>
              <a:ext cx="52563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3399"/>
                  </a:solidFill>
                  <a:latin typeface="Arial"/>
                </a:rPr>
                <a:t>Metodi e tecniche per l’E-Tutor nella scuol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95280" y="2060640"/>
            <a:ext cx="8282160" cy="38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99"/>
                </a:solidFill>
                <a:latin typeface="Arial"/>
              </a:rPr>
              <a:t>Livello pragmatico-comunicativ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208080" y="103320"/>
            <a:ext cx="8497800" cy="680760"/>
            <a:chOff x="208080" y="103320"/>
            <a:chExt cx="8497800" cy="680760"/>
          </a:xfrm>
        </p:grpSpPr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395280" y="103320"/>
              <a:ext cx="8229600" cy="68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208080" y="765000"/>
              <a:ext cx="8497800" cy="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042920" y="404640"/>
              <a:ext cx="52563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3399"/>
                  </a:solidFill>
                  <a:latin typeface="Arial"/>
                </a:rPr>
                <a:t>Metodi e tecniche per l’E-Tutor nella scuol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24000" y="1773360"/>
            <a:ext cx="853272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99"/>
                </a:solidFill>
                <a:latin typeface="Arial"/>
              </a:rPr>
              <a:t>Livello pragmatico-comunicativ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208080" y="103320"/>
            <a:ext cx="8497800" cy="680760"/>
            <a:chOff x="208080" y="103320"/>
            <a:chExt cx="8497800" cy="680760"/>
          </a:xfrm>
        </p:grpSpPr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395280" y="103320"/>
              <a:ext cx="8229600" cy="68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208080" y="765000"/>
              <a:ext cx="8497800" cy="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042920" y="404640"/>
              <a:ext cx="52563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3399"/>
                  </a:solidFill>
                  <a:latin typeface="Arial"/>
                </a:rPr>
                <a:t>Metodi e tecniche per l’E-Tutor nella scuol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58920" y="2349360"/>
            <a:ext cx="8785080" cy="26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99"/>
                </a:solidFill>
                <a:latin typeface="Arial"/>
              </a:rPr>
              <a:t>Livello strutturale-procedura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208080" y="103320"/>
            <a:ext cx="8497800" cy="680760"/>
            <a:chOff x="208080" y="103320"/>
            <a:chExt cx="8497800" cy="680760"/>
          </a:xfrm>
        </p:grpSpPr>
        <p:pic>
          <p:nvPicPr>
            <p:cNvPr id="76" name="" descr=""/>
            <p:cNvPicPr/>
            <p:nvPr/>
          </p:nvPicPr>
          <p:blipFill>
            <a:blip r:embed="rId1"/>
            <a:stretch/>
          </p:blipFill>
          <p:spPr>
            <a:xfrm>
              <a:off x="395280" y="103320"/>
              <a:ext cx="8229600" cy="68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208080" y="765000"/>
              <a:ext cx="8497800" cy="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042920" y="404640"/>
              <a:ext cx="52563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3399"/>
                  </a:solidFill>
                  <a:latin typeface="Arial"/>
                </a:rPr>
                <a:t>Metodi e tecniche per l’E-Tutor nella scuol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-757080" y="2421000"/>
            <a:ext cx="1069488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99"/>
                </a:solidFill>
                <a:latin typeface="Arial"/>
              </a:rPr>
              <a:t>Livello pragmatico-comunicativ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208080" y="103320"/>
            <a:ext cx="8497800" cy="680760"/>
            <a:chOff x="208080" y="103320"/>
            <a:chExt cx="8497800" cy="680760"/>
          </a:xfrm>
        </p:grpSpPr>
        <p:pic>
          <p:nvPicPr>
            <p:cNvPr id="82" name="" descr=""/>
            <p:cNvPicPr/>
            <p:nvPr/>
          </p:nvPicPr>
          <p:blipFill>
            <a:blip r:embed="rId1"/>
            <a:stretch/>
          </p:blipFill>
          <p:spPr>
            <a:xfrm>
              <a:off x="395280" y="103320"/>
              <a:ext cx="8229600" cy="68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208080" y="765000"/>
              <a:ext cx="8497800" cy="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042920" y="404640"/>
              <a:ext cx="52563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3399"/>
                  </a:solidFill>
                  <a:latin typeface="Arial"/>
                </a:rPr>
                <a:t>Metodi e tecniche per l’E-Tutor nella scuol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-612720" y="2349360"/>
            <a:ext cx="1018836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99"/>
                </a:solidFill>
                <a:latin typeface="Arial"/>
              </a:rPr>
              <a:t>Livello pragmatico-comunicativ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208080" y="103320"/>
            <a:ext cx="8497800" cy="680760"/>
            <a:chOff x="208080" y="103320"/>
            <a:chExt cx="8497800" cy="68076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395280" y="103320"/>
              <a:ext cx="8229600" cy="68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208080" y="765000"/>
              <a:ext cx="8497800" cy="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042920" y="404640"/>
              <a:ext cx="52563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3399"/>
                  </a:solidFill>
                  <a:latin typeface="Arial"/>
                </a:rPr>
                <a:t>Metodi e tecniche per l’E-Tutor nella scuol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-468360" y="2133720"/>
            <a:ext cx="1011708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Livello individuale: Curva dell’autonom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08080" y="103320"/>
            <a:ext cx="8497800" cy="680760"/>
            <a:chOff x="208080" y="103320"/>
            <a:chExt cx="8497800" cy="680760"/>
          </a:xfrm>
        </p:grpSpPr>
        <p:pic>
          <p:nvPicPr>
            <p:cNvPr id="94" name="" descr=""/>
            <p:cNvPicPr/>
            <p:nvPr/>
          </p:nvPicPr>
          <p:blipFill>
            <a:blip r:embed="rId1"/>
            <a:stretch/>
          </p:blipFill>
          <p:spPr>
            <a:xfrm>
              <a:off x="395280" y="103320"/>
              <a:ext cx="8229600" cy="68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208080" y="765000"/>
              <a:ext cx="8497800" cy="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042920" y="404640"/>
              <a:ext cx="52563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333399"/>
                  </a:solidFill>
                  <a:latin typeface="Arial"/>
                </a:rPr>
                <a:t>Metodi e tecniche per l’E-Tutor nella scuol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187280" y="2276640"/>
            <a:ext cx="6913800" cy="36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1T14:59:12Z</dcterms:created>
  <dc:creator>CEPAD</dc:creator>
  <dc:description/>
  <dc:language>en-US</dc:language>
  <cp:lastModifiedBy>simona.ferrari</cp:lastModifiedBy>
  <dcterms:modified xsi:type="dcterms:W3CDTF">2008-05-23T10:55:56Z</dcterms:modified>
  <cp:revision>23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7921945</vt:r8>
  </property>
  <property fmtid="{D5CDD505-2E9C-101B-9397-08002B2CF9AE}" pid="3" name="_AuthorEmail">
    <vt:lpwstr>elena.tassalini@unicatt.it</vt:lpwstr>
  </property>
  <property fmtid="{D5CDD505-2E9C-101B-9397-08002B2CF9AE}" pid="4" name="_AuthorEmailDisplayName">
    <vt:lpwstr>Tassalini Elena</vt:lpwstr>
  </property>
  <property fmtid="{D5CDD505-2E9C-101B-9397-08002B2CF9AE}" pid="5" name="_EmailSubject">
    <vt:lpwstr>Master E-Tutor - Corso in Blackboard e modelli materiali</vt:lpwstr>
  </property>
  <property fmtid="{D5CDD505-2E9C-101B-9397-08002B2CF9AE}" pid="6" name="_ReviewingToolsShownOnce">
    <vt:lpwstr/>
  </property>
</Properties>
</file>